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81152-E6DC-4ED0-AEB8-2FC8129F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FF0C2-993D-4C1E-8F81-2896C7B5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440E7-F871-4365-8B36-AF338246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BDA48-D0C8-4571-95D5-FF9B1411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08312-1583-480F-B982-1252DA84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90F29-AAA3-466B-865A-C70B581B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9B9F0-F02B-4633-843A-63AB2196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687E0-4C83-4777-85FC-13E2B379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4D961-1E6B-47E6-9F8F-EB87B0E6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5B684-2E1B-4FDC-B3F0-771BAE1D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72A33-326A-4EDD-AFE8-A315F0D6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E1FE8-1C28-4EFD-86E0-2CC815D3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BD280-8BB8-4DEB-89BB-F5C23C37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F3A66-DAD9-4C30-854B-7D455690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E49ED-2C90-417F-9D51-F7BC1BA1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13812-6D23-4BD1-B96B-A6AFAC8A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6382F-D48C-4454-8737-F43F474E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1ADD6-7AEC-4736-8FB2-82125FBD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D8FED-E4D4-4B13-9622-FA695FD4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A2691-16A2-4003-BB21-4D4A3EED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14E52-0103-40F6-BFC4-2B5C144A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88CD6-7393-4625-A047-323F7336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97583-8D17-4315-9649-032B6DBC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CB151-8C8F-493F-8590-C03B4D0D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22E71-B18C-4082-9975-E6C30FBD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C8133-1C50-4A22-B234-DC0BEBAA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D5366-A28F-4CFF-939C-B621DC49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B2FF7-E3FD-4E55-845E-50E4E291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429A3-3770-4DDA-8FCC-CAAB7A8D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C94C3-28C4-4306-AAF6-C3911F3F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FB49-E8B9-4555-A7E8-2AE5AFF7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3B699-BBC4-4BCA-9EBB-8BEEAF4B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5FFD7-7F96-48BA-BCC1-794AE675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03006-9F48-42A6-947D-36BB3A7C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E766F-F10B-4373-BB93-FA8F8563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E8C91-377C-4530-B211-2ACA40DA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5EEA6-8C91-484D-B2B8-84A1429C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94EB2-1CC6-437C-BEB5-083A7D01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9FAC9-9726-4244-8B51-19F9681B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FCDD4-05FA-4031-B892-CE093327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0ACCA-98F2-4250-9910-3A6D4831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B9F0-E3DB-4ADD-9E82-599872DE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0DB9A-2C81-4029-82C3-4308AAA4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F95BF-FA76-47AE-8AC2-0D04D2BB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4A8B4-4614-46B3-9E0B-8C64F4E4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84F7B-5588-43FF-9D00-B7DFBD5E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D2A13-A734-480A-8045-EFCF0B18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565-EEA3-4B46-A0C2-5D2C4142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ECB5-10C1-4C85-BAE0-3B40C7FD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B39A-397C-4D68-86D6-AD32050C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151F-74F7-496B-87DD-2339975B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3067-07D1-4311-8395-9E8C73E8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5DEA-95B0-42FA-A949-D2291953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CF42-E1D1-411A-A74C-DD6CAE6B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EA69-42EA-4E8C-98E9-7A323B19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0A3F-9130-4CAF-BA92-1F73DD8B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12E9-C8CC-4393-9726-3F6CA751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B3B5-9F61-428B-B119-831D7B6C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6AEE-A200-4D56-AE71-4E218F14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C762-C586-4E74-B1E9-AC4A8C43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2354-E8EA-4E62-B368-DB97426E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0D59-29A1-4A16-810D-653E8E70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E0D1-0F9B-414F-9174-65C6DB77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79CE-9DED-4481-87C6-85DB2FCA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112B-F0DB-4E32-9415-E3FC50CA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7C60-F96C-4ECE-A383-F6F21221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5371-8478-4103-9673-A0EAA6AC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E6CE-8F25-483F-8895-A5185500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3735-5C90-4280-B6F9-322C374C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97F0C-B3C0-4D1F-9FEF-EF0F77DE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457FE-E00A-477D-B644-960FEE75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8AAF7-BA26-45E5-8195-28A5CCC4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8C140-1F12-4F0E-9EBC-1D4163A5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22D10-5F4D-4106-A458-A8A4B1CB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E6846-F34C-41F4-9923-66879B31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3B0E9-162B-4F08-B159-A6645EB8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2F8B3-14D5-4213-BD63-191F250D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0E45C-7A78-4AD2-ABAE-FCCFB8CF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80F14-59A3-4209-95DC-577DE784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68C3F-5EF1-4367-BBAF-533C9F5B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18BF6-8397-415C-BB23-0EA24F15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29B0E-B5EB-4884-9DF8-4C002FF4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75B30-4E5C-4DF8-A05B-95817886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C2695-5610-4F73-B8E5-CCFB3334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71553-3D8F-407F-A6EB-E8B38A80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56018-EDB6-4462-96DC-831BA6B4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B7751-674B-433F-9C0E-5BD8D757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D2186-B768-4062-9912-A6934C96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3A441-4A95-4665-9ED8-8C7BA484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CBF0B-556A-4F26-891B-4F78555C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913CA-4AC9-4AC3-9085-6C3471DB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76505-EAE5-4B0F-A049-437DBB94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A2EE0-F301-463C-9AD9-AF6F91D7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403A5-8EDE-40EF-B757-282D3EDF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0BF24-59EB-4DA0-BF37-7CB04B06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22916-350E-4E65-95EE-CF76C6AA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EA307-6B6E-44E1-B945-09C4B805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B932D-D981-42BF-9A09-B365264E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1C2B7-28F7-43CA-B344-24F330DD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3BE54-C301-427D-B7C7-5A49907D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F3C1A-F5B5-405D-ADEB-773C36DE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872C8-D6F2-46C3-81DE-2D85AF5F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B0957-1550-499C-9105-DB11BF69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3A1EE-C8DD-4EBD-8AE0-82AE0D4F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D2DD9-4E36-41FD-A621-F7D624CB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A8A46-A788-4CEA-A9D9-B570A461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8BFEC-4A03-46E3-86E1-85C03176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1CDD2-25E3-4219-8D2C-BA58DA80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EE354-B5F0-4626-8921-67A2C420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80FB0-168B-4AF7-A2E5-7B00EB5B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4FC44-4DAE-40C8-AF36-F1E75274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0AEE7-42FB-4A37-BCE9-81C607C4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2B1AE-A626-41B3-9244-CCF6BF9B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37D91-F4E0-4395-957A-462771F6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A2BCB-E3A4-4C20-95ED-AC9E2D97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3B9B5-5FCF-468C-8D7C-17610677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1CD1E-220C-41B0-B4EA-E415F4F9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57F3C-EED3-40F7-BFA1-1F68BA7C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50F12-0D0B-47F5-993C-781A09B7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6D4FF-193E-4F64-9A70-0C47DE0F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0B24B-CDF2-436C-9E6F-3542A36D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78DD3-A34C-4201-A490-CAF87001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B3445-548D-4311-9F2A-23D34745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985CE-5CC7-47C6-9A6A-B1FA69F3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B35B3-3A5E-48D9-B81F-32D608CF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0837D-1720-4BB3-840E-0C4CAD1A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79662-D9C1-4553-8789-37CE99C2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8B609-5DB6-4EAC-8D23-D8D744C6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38919-5716-4F87-846A-8FDAC038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843CD-F3DB-4B9D-B025-FBF042B1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C7B87-7D68-46B4-ACC6-985B091B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33E89-C1F4-4A49-8F79-0314B3CF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7B63-667C-41A8-9946-CFC89C9C828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25E5-1BE4-451E-BA6E-665AD521AC1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FFDE-C6E3-458F-866E-EA4F6CCA48B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F271-F187-482F-96EC-42D3B5CCA01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4274-B881-4C71-8448-425432B4D8B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48FB-054C-4BCB-9BD9-868D32C9CCD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C098-3EB3-4069-A845-E4DE792C5EB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BA6D-2AC1-40C5-809C-D5F0429FADB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FE81-4068-439E-B307-DBAA9B282F0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2C64-1BAA-470F-8DAD-02CB61ADE0E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B876-9511-4197-86F8-822E46D0CA2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24000" y="2565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are God’s plans for the world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’s our place in God’s plans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108000" y="2421000"/>
            <a:ext cx="87120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salt and light in the 21st centu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ing the character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owing the compassion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ing the message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12Z</dcterms:modified>
  <cp:revision>10</cp:revision>
  <dc:subject/>
  <dc:title>PowerPoint Presentation</dc:title>
</cp:coreProperties>
</file>