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BED92-EB25-4BF3-9A55-BF03B943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4CBA7-7294-4AA4-935E-9E944F1E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CCD57-ABBC-4852-B34E-7E5F4128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39EF0-94BB-4043-879B-4EBBC0A2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AA46C-2C13-4802-9EDE-7C6F9D5C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E0BF6-7D73-4B87-8CE6-D6BED5E8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967AD-64F6-4045-B95A-767961CD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EE157-15E5-4695-A447-190497000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3A6C6-EF2E-4858-A488-64BB4488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0BE3B-592E-4B1F-958E-6B96F7664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E44DF-7B03-4811-A9D2-89ACE381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844C8-70C4-4E45-825D-3337DE23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E8EB3-C214-4E20-B238-CD0B07B8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7F664-F3C9-4F3A-8FE3-9AFCECBA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83BDE-DB8F-401F-983C-F384C651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99FC0-13BA-4075-AD2E-880B811B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6C3C7-EEFF-4197-A19C-70CC181E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76BB8-F7F9-486E-8FBE-B58311E8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D4D59-C41A-498E-884F-18F14573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856BF-6CE7-4154-A3D2-0749555EE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CE5A0-6132-44B7-813C-473E2B305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A6B8B-54E4-488A-89AF-5807443F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80B51-6BB9-4832-9A4C-D63C6C5C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5A74B-715E-48D6-B963-C49860E3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2373F-6965-41C2-A214-C99F55D4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BF1D5-A183-4189-A8FD-587E42B6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0AB22-51D9-466F-BF65-5A815349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8B3F99-0304-4D69-9937-98308B56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3F12CE-AEBE-49AD-BA25-9E65A876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B06D3-63B0-4E5B-9D40-ED940D5C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C2F6-94B3-47FC-90C6-5458EB323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5FB49-5796-4566-A54B-EF0115EB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3A2DE-7D72-42B0-BD50-C3AB88AEB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377F6-A5DA-46BF-B826-80641D9E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CBC72-43D0-41F5-8ADB-2B7DE6AE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10CBD-D21B-4F35-8DF7-FE54C316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8E2AD-2A62-4E3F-8DFE-5C0156A2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993DF-6D68-40AE-A254-F19F23DF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E05BF-8705-4AA3-A4F7-785EB0D1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4F384-BEF5-4A0A-8E06-F0AFDDBD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8853C-FDC9-4B3E-8307-194C5A17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5B72-4EE6-4F04-BEE8-29C2F0B2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83F18-E3AA-4E14-9EED-F5DD7578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0010F-69AD-4CD1-A310-DFD32D66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DEA46-4160-42ED-810D-CE62F16B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11C53-35AF-4555-903E-02364895E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D8BF3-E6A8-41DB-AD10-DF228FF5B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69B1-567E-458E-BD0B-5D5589A7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CAAB-1627-4154-8B77-D340CEA7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B820-6FBF-4217-BC35-CE894FC1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3D88-378D-415F-9FFA-A113EA8D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617F-05BB-4CE6-9283-84ED07F8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C72D-C297-45A4-9A22-0FC3A6B7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CF2C-3666-46F6-B814-5F3D1FBD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599B-B353-492D-BDAE-900E74E5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6AF8-4131-48CB-9AD6-33A067909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7AA7-D2A3-42C7-8834-8A7B89366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90AF-A752-46E8-8351-5A05DE60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00FA-F2D1-415D-B448-B36F04BE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A410-DDBC-4F48-992E-345A6DFA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737F-88A4-4BFD-8191-89DECE6F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4450-B69F-49AF-A419-6835E4F3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C183-CA0E-4178-A0F1-3BFDE2CA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F45D-60DC-4261-9F99-6365F51A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D75A-A12C-49A9-8AFF-2531A7B0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0A0E-85C6-47B4-8EA4-39C2DAFD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986A-22FF-49E1-8D43-6670F2EE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7753-51C3-4623-A812-4506B2BFA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E466-A64B-41A2-A89B-E052A08DA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EE41C-45C0-462B-A3F9-FF71E304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8AB3A-50EF-4BF4-ADF4-04EF63F7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9CE99-E0FB-49EC-B450-BCFE3FA1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52B15-C81C-4BE2-92DC-662C0619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5CA13-55EF-4083-983C-F36A6DEB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AAAE4-9ECF-4AB6-98EE-688DBD43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304CB-3A71-4E3D-9CAC-898C26E1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52CB1-C46F-4D9C-9143-EC4E5C1E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8FDD0-E064-4E89-9843-AA236B38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307D7-689D-4385-A76C-677534BC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C98BF-61F8-4E22-AF4E-D86B53344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C6F4D-0580-4528-BA6E-F57B0CC9D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23872-B2CE-4622-A592-D753C789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2F8B5-D2EF-439F-B649-2AC74868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39026-606C-41CF-B5B5-595BF297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94A37-2B65-405F-9099-1D08A028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BF824-01D7-468D-93D7-0B03CDEF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53FE9-4FDF-41AA-B1B6-CA3116BD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517CD-00AE-45F8-81EF-26EAEBD4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8089C-32FA-4F77-A0DE-EFEE1E44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81638-E5E2-4CAE-AE2A-56D91233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8BA31-DF02-47CF-A376-77C30ED6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6076F-00A1-4B49-9387-6B34F1FC3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9B4F1-E699-4A19-83CA-8214E7112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A2A39-7018-4B68-ACC0-8A3CC3E69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58267-654C-42E2-BA62-B83E23E8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CDFAD-3FFD-45D8-BDD2-B27436F5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54C97-F6F9-4A9A-86A6-7338BC29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CDE8A-BCAD-4333-8308-4A0C56BA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11AE7-041F-4884-BE08-C3D15BD2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B24E9-F97F-4CF8-A026-180DC6A4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1E1DF-8324-4E23-8073-5AE0A13B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4A4A4-A0E4-46BB-94F1-40142DCE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BC6EF-C238-413C-B92E-9B0B0BE5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54550-E6A7-42F6-8A45-D4C68D0BF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26E57-0157-4E95-9F9B-7D44E9929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5BA11-5DBE-4FE6-BF35-F7421ECC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786F4-5081-414E-9934-1081C638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B0F24-BD6C-4239-A88F-E07B1BE3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968CC-5872-419B-BB2D-20267DDF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A8E68-89FD-4483-BCEC-29D73F32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2AECA-F09F-4F91-A862-B48547DA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C464B-31BC-4E34-A0BE-29EA7409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F6E84-D2AB-486B-B2F8-2CD5BD65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82821-C926-47B5-8713-2E587B0F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9F921-65B4-4A95-9141-39145748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8A30B-B0C2-4893-A4C3-B7014BA70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FA0FB-20BD-430B-BB39-66E55FE1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F04E6-6126-4480-95D9-8EAFEAAC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39CC2-5178-4542-9F2E-BA9A1A97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F6D6B-C180-472F-898C-1ACC7CA1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88D13-3894-440D-909F-66969D79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015E5-F955-4B72-AEF6-D555801C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84CD0-F807-441F-9F78-7EB8EC83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6D239-1246-46AF-90FB-A1391852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A7E7B-C0E2-4BE7-B2B1-780829A8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36425-03FD-4925-A9BD-A70559F8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B8795-DBC0-439D-82FC-1F687167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82360-5792-4ADB-9985-85F107405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299C7-1D04-4DFD-9558-C4304181C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F55A0-C5B3-434C-8AF1-EBCD4CAD2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94995-966B-4D10-89A0-1B7412BF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E6EC8-DA2D-4ECC-9EC5-CB3E27A0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D5FA-0C05-496A-9EAF-B74E812320D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A74C-7652-4E1C-AB7C-6F07927C49E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CC6C-D59B-4065-9FF4-84FFA7EEAFC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9A46-ED2B-476F-899D-D67239F3BE7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426F-D62D-4F7A-BF41-AE75FC355CB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662C-F512-4952-B954-1149698B259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618A-58E8-4B96-80EC-10A60ADEBC6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C9E4-E749-418D-B32B-A6B926CBAAA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534E-0E85-47D6-BAA9-440798E347E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0424-0A83-4C58-BAF8-D006D96D7C5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E9F5-CA20-46E5-8F27-A928AEEADB5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1844640"/>
            <a:ext cx="7712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ithin the last 30 years the world has changed dramat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change has consequ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‘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Insanity’: “Doing the same thing over and over again expecting different results”</a:t>
            </a:r>
            <a:r>
              <a:rPr b="1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(Albert Einste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611280" y="1844640"/>
            <a:ext cx="7640640" cy="52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observes the culture surrounding him (v 16, 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preaches in a different way                           for a different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Our God is Lord of the ‘different’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46Z</dcterms:modified>
  <cp:revision>8</cp:revision>
  <dc:subject/>
  <dc:title>PowerPoint Presentation</dc:title>
</cp:coreProperties>
</file>