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9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ADFFC2-02DE-499F-B2F8-7E3A2BCB8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90B934-D3FD-41E4-83AE-1E57FE512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6951ED-D7D7-4F78-B287-526A9D76B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B372EE-E21E-4352-ABE2-0D2238746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D2B2E0-F7DF-4A15-AF4F-0A9A60DB1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719145-9226-4132-BA23-B20C663B9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B71F8B-1A2D-4A3D-B352-D08DE78EF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387F2A-265E-4528-8F92-3E5B3560D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938B88-F17D-4BE6-9E22-9801F20DE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35FD33-EC0C-4A3F-822C-BEE75E269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9997F3-4B09-463F-80ED-8C8CC97C9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F4E4EF-8ACD-4DF0-B2B4-5801451BD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CF68C4-9922-440B-AF9D-01BF2FD92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9ECD79-AC64-4495-BB6A-B2CFD33A2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793DC4-5A94-4E02-9CAA-83BA5A237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E8D320-6E9B-40A7-B65C-3F5D1A894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2E809E-0095-425F-8866-DB7C9F112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BB4D01-83AC-45FB-A545-3CF7B8F2D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87ECB6-C11F-4ECA-AB20-DF14F281D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5F7A67-9752-4C66-A11F-C8116A4B7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C07099-7A58-4DC0-9416-D01220CC1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15B0AA-8E63-4F84-8DCD-751471FAE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D6F300-6184-4E85-8C7B-E9A227970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98E263-ACFC-4369-864F-1D18C2BFB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795311-A44A-4D73-873C-C7D987C24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60FBD0-54E9-4D90-98D6-E30FCD3AB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12ABBA-76B2-4BEA-A260-D35148983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09F8E7-0AF9-488F-986E-B61AEDF5C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7D0966-17DF-4F7A-B5E1-CAAFF8D31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EB7366-28A0-43AA-86AB-83529AD3D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52E33-E930-4F25-9683-6625BF437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8660F2-18D1-4456-98CF-4F0DDE8D2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F470C0-0816-484A-8592-718903B2B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A59718-D3C3-491C-AF3E-BDE11FEC6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C7A9E7-148F-4E97-BEC8-F1D45F962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397B16-627A-4C1B-9D10-EC22A23A3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937E8B-3193-43BB-8A92-47CDBB39F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C58897-CD1A-4F03-9D11-B80264B0E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983546-94E8-417C-9661-DEC283518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E15C36-A84F-4EE2-A048-7CEE1464C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4D481E-ECC9-4BAE-B82F-5A8FA8544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EBB62-6FEE-4AAA-AED2-0E8D136E4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7C2283-CFC3-49C9-88D0-7D8CC2C92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5243B0-FA7C-4CA0-8DC6-469866DE3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5D833B-07FC-47DC-88DE-60D58F8B9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721D16-CFDC-4DD7-B9A3-7E5027E5C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91491C-770E-4530-B129-7E5FCF536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3E671-3DC4-4C8D-A9FF-4DAA0F2CF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A32EF-A057-4F34-B18C-357CBCFCC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4BC4D-8030-453F-A38D-9F801B6E3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A4CF3-210B-42CA-B39E-34FB45994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45689-1B19-4FDB-8C6F-90951E5F0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54B31-1457-4C6E-8BB9-11723AFCA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67C20-1B9A-442D-948D-7F3DF0940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FA30A-3521-42AF-8127-14602ECD9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4EAA6-CE1A-45EE-89C7-DAD16C4C2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39D30-2BF7-4208-9A57-AF3D97126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CC39C-BC3D-4EA2-BA47-174732791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B542F-AC71-4D4B-903F-ABE283D9B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9DFBB-B712-42F1-AA5B-24C542DFB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4CF8B-9349-456D-BF6E-1BC7F482E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C46AB-37CA-45F3-9C3D-0497FDD5F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9E4E2-E0CD-49A8-A415-3B6C1F57F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2C601-7C5E-442E-B433-05A01B8EA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CEC17-5680-4193-80F1-1B9A38E4C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CF0FF-AA65-4A3E-B146-B26593EA7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71CE7-13B6-47D5-A3E6-2B14B878D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B1429-B3C1-4A49-B6A5-45CB4E2A7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06386-31B4-4629-90A8-034D914C1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24BB7E-3EA6-43B6-A95E-0DE648072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9B852A-B960-43C7-9C52-38922F2E1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F392D2-9971-4890-9A38-4DD0C683F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AAF9D2-F591-4A3D-98FC-F7520E79B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27026C-CC89-47C2-96C3-D5E5B1664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F89D59-BAD6-454C-A33B-B6994896D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7488E5-B004-4660-BC52-EDA066110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7C5546-C74D-45C5-9EC0-44A4B9DEF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B52F77-4CF5-4D8D-B351-728DCE1DE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027E8E-A0FE-4C5E-86E4-EB704D8CF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71D71D-E883-4377-8896-5EC4CDCC4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966DEA-CFB8-4F6E-887A-13727EB24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2316BB-7038-464D-988E-85159066D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3681D0-4038-41A0-B30A-4143F8000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E43F1C-F2A2-443C-BF9C-E7B126FB4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283E90-E6A2-48A0-90F8-6D2A4E6EF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80173B-429E-4605-8CAB-C70DE74C1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C4D3A7-CABC-486F-AFC5-03C456BE3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0C7C01-BBD3-4B7D-A424-DBB0808EE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4A5E8D-8672-4F5F-817F-0A99BB8F8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78E10C-49D8-4083-9661-C9E069B82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546827-F19B-4B64-843C-86B26A75B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F1C863-383F-45B9-8BCD-BEB83FC6F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6A26E2-5F44-484E-AEEA-895956869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F59549-90BA-43FE-A460-6FF3E8EA7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FA061F-1B9E-422F-B849-45099C187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C13097-3297-4990-AC4D-F21C687D5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F3F731-9214-499A-85F0-B55FC9531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97BF17-87A2-4AAB-9C3F-5B729E08F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2D51BF-DE0E-4039-82A9-2F3E3A698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B51E7D-B406-4FD9-A221-113F8A1E6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0C0216-DE77-42B8-BE73-F6A7936C5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36AA17-5C58-4AA1-88F6-348B724E2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5679E0-7785-4C49-A4DC-0ED93846C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42A436-8FB6-471C-89CA-B6013DAEC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FC03C6-BA9D-4474-8412-F9515EE7C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290C16-CDCB-40BF-B234-20F8496C8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46D2FE-AC56-45ED-AD0C-26C3FA574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3523CD-555E-41BE-84E7-AE1608E82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4A5BCC-0879-443A-A201-BDA361289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AD866B-44CF-4777-B93F-A82F4A50E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5BA9A6-EE47-4FDB-AD4D-F122652B0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1052EE-F67F-4682-82B2-CC278E113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CA9B18-F19C-4B95-903D-62434FBE2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288FFB-6ED4-45A2-8422-524367764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05AFD3-7A3A-4B66-A84E-A524ACC93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42F828-22A1-425D-84D7-11F52DC88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096437-CE00-45F8-B4CB-2DC69FE10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F0AE45-DCBB-4DEF-84EE-F18A00FAB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C4C808-2565-455F-9932-DC6DB372B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391894-2A3C-45B0-BC48-F0FC72054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E5878C-066F-48EC-B360-809AB6FA9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D065A3-694D-4AF2-895E-4A6FEBA63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5A4CD0-5772-4C90-AC91-CFE880B6A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42E78E-AE47-4E66-85AB-B0B8D33D9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15D9AA-DB40-4676-8823-AC98E3E2A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C1F5D9-43B8-434A-AFD5-62ACF2CFA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F89239-B1F3-489C-82C5-3D9C2E5C6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285273-C54C-4EF3-8614-4F4E52BB8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4492B5-CAA6-45D6-8E14-A34CC9536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D76E40-7253-4A2B-BBD4-6E384447A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50D528-A439-407B-A33F-78A19A90E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A53DCA-FC6E-4AC3-A9CB-D2FC6A9FD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3" descr="RefocusNoStrapline.jpg"/>
          <p:cNvPicPr/>
          <p:nvPr/>
        </p:nvPicPr>
        <p:blipFill>
          <a:blip r:embed="rId2"/>
          <a:srcRect l="6288" t="0" r="0" b="25171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Picture 13" descr="RefocusNoStrapline.jpg"/>
          <p:cNvPicPr/>
          <p:nvPr/>
        </p:nvPicPr>
        <p:blipFill>
          <a:blip r:embed="rId2"/>
          <a:srcRect l="6288" t="0" r="0" b="25171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379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D67E8-ED37-4CA0-9A0B-1D28217817D6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Picture 13" descr="RefocusNoStrapline.jpg"/>
          <p:cNvPicPr/>
          <p:nvPr/>
        </p:nvPicPr>
        <p:blipFill>
          <a:blip r:embed="rId2"/>
          <a:srcRect l="6288" t="0" r="0" b="25171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21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40792-E29A-453E-9C16-204E749CDEAE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Picture 13" descr="RefocusNoStrapline.jpg"/>
          <p:cNvPicPr/>
          <p:nvPr/>
        </p:nvPicPr>
        <p:blipFill>
          <a:blip r:embed="rId2"/>
          <a:srcRect l="6288" t="0" r="0" b="25171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63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E0A47-BF18-458E-A6F2-85F6E525F478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13" descr="RefocusNoStrapline.jpg"/>
          <p:cNvPicPr/>
          <p:nvPr/>
        </p:nvPicPr>
        <p:blipFill>
          <a:blip r:embed="rId2"/>
          <a:srcRect l="6288" t="0" r="0" b="25171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1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9C1C6-0AA2-4322-9911-161F02F2DAAE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13" descr="RefocusNoStrapline.jpg"/>
          <p:cNvPicPr/>
          <p:nvPr/>
        </p:nvPicPr>
        <p:blipFill>
          <a:blip r:embed="rId2"/>
          <a:srcRect l="6288" t="0" r="0" b="25171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83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E044A-041E-4558-8987-1329DDBD1E02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13" descr="RefocusNoStrapline.jpg"/>
          <p:cNvPicPr/>
          <p:nvPr/>
        </p:nvPicPr>
        <p:blipFill>
          <a:blip r:embed="rId2"/>
          <a:srcRect l="6288" t="0" r="0" b="25171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127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EA543-0E6E-48F1-8525-58125704394B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13" descr="RefocusNoStrapline.jpg"/>
          <p:cNvPicPr/>
          <p:nvPr/>
        </p:nvPicPr>
        <p:blipFill>
          <a:blip r:embed="rId2"/>
          <a:srcRect l="6288" t="0" r="0" b="25171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169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A4B8A-D114-427F-87EB-1BD383F11D44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13" descr="RefocusNoStrapline.jpg"/>
          <p:cNvPicPr/>
          <p:nvPr/>
        </p:nvPicPr>
        <p:blipFill>
          <a:blip r:embed="rId2"/>
          <a:srcRect l="6288" t="0" r="0" b="25171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11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2A47F-B4A2-4732-97BE-314629044847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13" descr="RefocusNoStrapline.jpg"/>
          <p:cNvPicPr/>
          <p:nvPr/>
        </p:nvPicPr>
        <p:blipFill>
          <a:blip r:embed="rId2"/>
          <a:srcRect l="6288" t="0" r="0" b="25171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53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0D9C3-54EA-486B-82F0-A1463A1A2C60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13" descr="RefocusNoStrapline.jpg"/>
          <p:cNvPicPr/>
          <p:nvPr/>
        </p:nvPicPr>
        <p:blipFill>
          <a:blip r:embed="rId2"/>
          <a:srcRect l="6288" t="0" r="0" b="25171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95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E05FE-0205-4B91-A456-7C8F56C8E1CC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13" descr="RefocusNoStrapline.jpg"/>
          <p:cNvPicPr/>
          <p:nvPr/>
        </p:nvPicPr>
        <p:blipFill>
          <a:blip r:embed="rId2"/>
          <a:srcRect l="6288" t="0" r="0" b="25171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337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AEA00-DC38-42A0-9731-6AA3289F60BE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3" name="Picture 2" descr="\\genesis\Mission\Refocus\Refocus Images\RefocusLogo_NoStrapline.png"/>
          <p:cNvPicPr/>
          <p:nvPr/>
        </p:nvPicPr>
        <p:blipFill>
          <a:blip r:embed="rId1"/>
          <a:stretch/>
        </p:blipFill>
        <p:spPr>
          <a:xfrm>
            <a:off x="1643040" y="1643040"/>
            <a:ext cx="5429160" cy="36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Picture 2" descr="\\genesis\Mission\Refocus\Refocus Images\RefocusLogo_NoStrapline.png"/>
          <p:cNvPicPr/>
          <p:nvPr/>
        </p:nvPicPr>
        <p:blipFill>
          <a:blip r:embed="rId1"/>
          <a:stretch/>
        </p:blipFill>
        <p:spPr>
          <a:xfrm>
            <a:off x="1643040" y="1643040"/>
            <a:ext cx="5429160" cy="36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2" descr="\\genesis\Mission\Refocus\Refocus Images\RefocusLogo_NoStrapline.png"/>
          <p:cNvPicPr/>
          <p:nvPr/>
        </p:nvPicPr>
        <p:blipFill>
          <a:blip r:embed="rId1"/>
          <a:stretch/>
        </p:blipFill>
        <p:spPr>
          <a:xfrm>
            <a:off x="1643040" y="1643040"/>
            <a:ext cx="5429160" cy="36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6" name="Picture 2" descr="\\genesis\Mission\Refocus\Refocus Images\RefocusLogo_NoStrapline.png"/>
          <p:cNvPicPr/>
          <p:nvPr/>
        </p:nvPicPr>
        <p:blipFill>
          <a:blip r:embed="rId1"/>
          <a:stretch/>
        </p:blipFill>
        <p:spPr>
          <a:xfrm>
            <a:off x="609480" y="2214720"/>
            <a:ext cx="7961400" cy="26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7" name="Picture 2" descr="\\genesis\Mission\Refocus\Refocus Images\RefocusLogo_NoStrapline.png"/>
          <p:cNvPicPr/>
          <p:nvPr/>
        </p:nvPicPr>
        <p:blipFill>
          <a:blip r:embed="rId1"/>
          <a:stretch/>
        </p:blipFill>
        <p:spPr>
          <a:xfrm>
            <a:off x="1895400" y="500040"/>
            <a:ext cx="5391360" cy="600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8" name="Picture 2" descr="\\genesis\Mission\Refocus\Refocus Images\RefocusLogo_NoStrapline.png"/>
          <p:cNvPicPr/>
          <p:nvPr/>
        </p:nvPicPr>
        <p:blipFill>
          <a:blip r:embed="rId1"/>
          <a:stretch/>
        </p:blipFill>
        <p:spPr>
          <a:xfrm>
            <a:off x="1643040" y="660240"/>
            <a:ext cx="5786640" cy="531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9" name="Picture 2" descr="\\genesis\Mission\Refocus\Refocus Images\RefocusLogo_NoStrapline.png"/>
          <p:cNvPicPr/>
          <p:nvPr/>
        </p:nvPicPr>
        <p:blipFill>
          <a:blip r:embed="rId1"/>
          <a:stretch/>
        </p:blipFill>
        <p:spPr>
          <a:xfrm>
            <a:off x="3786120" y="428760"/>
            <a:ext cx="2500560" cy="3333600"/>
          </a:xfrm>
          <a:prstGeom prst="rect">
            <a:avLst/>
          </a:prstGeom>
          <a:ln w="0">
            <a:noFill/>
          </a:ln>
        </p:spPr>
      </p:pic>
      <p:pic>
        <p:nvPicPr>
          <p:cNvPr id="510" name="Picture 2" descr="\\genesis\Mission\Refocus\Refocus Images\ManWithBoard_Blue.png"/>
          <p:cNvPicPr/>
          <p:nvPr/>
        </p:nvPicPr>
        <p:blipFill>
          <a:blip r:embed="rId2"/>
          <a:stretch/>
        </p:blipFill>
        <p:spPr>
          <a:xfrm>
            <a:off x="357120" y="428760"/>
            <a:ext cx="2500560" cy="3333600"/>
          </a:xfrm>
          <a:prstGeom prst="rect">
            <a:avLst/>
          </a:prstGeom>
          <a:ln w="0">
            <a:noFill/>
          </a:ln>
        </p:spPr>
      </p:pic>
      <p:pic>
        <p:nvPicPr>
          <p:cNvPr id="511" name="Picture 3" descr="\\genesis\Mission\Refocus\Refocus Images\ManWithBoard_Red.png"/>
          <p:cNvPicPr/>
          <p:nvPr/>
        </p:nvPicPr>
        <p:blipFill>
          <a:blip r:embed="rId3"/>
          <a:stretch/>
        </p:blipFill>
        <p:spPr>
          <a:xfrm>
            <a:off x="2286000" y="2500200"/>
            <a:ext cx="2982960" cy="3976920"/>
          </a:xfrm>
          <a:prstGeom prst="rect">
            <a:avLst/>
          </a:prstGeom>
          <a:ln w="0">
            <a:noFill/>
          </a:ln>
        </p:spPr>
      </p:pic>
      <p:pic>
        <p:nvPicPr>
          <p:cNvPr id="512" name="Picture 4" descr="\\genesis\Mission\Refocus\Refocus Images\ManWithBoard_Green.png"/>
          <p:cNvPicPr/>
          <p:nvPr/>
        </p:nvPicPr>
        <p:blipFill>
          <a:blip r:embed="rId4"/>
          <a:stretch/>
        </p:blipFill>
        <p:spPr>
          <a:xfrm>
            <a:off x="5857920" y="2595600"/>
            <a:ext cx="2911320" cy="38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4T07:25:14Z</dcterms:created>
  <dc:creator>CHRIS BROCKWAY</dc:creator>
  <dc:description/>
  <dc:language>en-US</dc:language>
  <cp:lastModifiedBy>Mary Parker</cp:lastModifiedBy>
  <dcterms:modified xsi:type="dcterms:W3CDTF">2012-01-16T12:43:21Z</dcterms:modified>
  <cp:revision>10</cp:revision>
  <dc:subject/>
  <dc:title>PowerPoint Presentation</dc:title>
</cp:coreProperties>
</file>