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40B3-5405-407A-AB9C-378B9DD4F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19ED-750D-4140-AA99-01C9C9AF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EDCA-017F-4338-8640-FD93DB3D5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ED85-5D97-4DE0-AC8C-34B444850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3D4E-0FA5-467A-8E7E-F641EA3E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6FDA-ABA3-438D-A370-99741396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542A-2BDE-407C-AAB3-F49C6342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B5FE-0CC4-48FE-A0B2-8406EC0B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8F5F-4AEA-4742-A5B6-D274627F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E64B-E476-42A9-86C1-EBC6FEFA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3F6C-631D-427D-AC07-5EEC6F73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F0C2-B431-4A45-A888-2567BE7B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F1E0-2A60-473B-AB15-9D065AAFD0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AC10-F13E-4B6D-9363-4818021AB4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:\Documents and Settings\mparker\Local Settings\Temporary Internet Files\Content.IE5\SF05V9Y1\MPj04221040000[1].jpg"/>
          <p:cNvPicPr/>
          <p:nvPr/>
        </p:nvPicPr>
        <p:blipFill>
          <a:blip r:embed="rId2"/>
          <a:srcRect l="50539" t="3333" r="19944" b="0"/>
          <a:stretch/>
        </p:blipFill>
        <p:spPr>
          <a:xfrm>
            <a:off x="0" y="533520"/>
            <a:ext cx="1619280" cy="6095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RefocusNoStrapline.jpg"/>
          <p:cNvPicPr/>
          <p:nvPr/>
        </p:nvPicPr>
        <p:blipFill>
          <a:blip r:embed="rId4"/>
          <a:srcRect l="6276" t="0" r="0" b="25158"/>
          <a:stretch/>
        </p:blipFill>
        <p:spPr>
          <a:xfrm>
            <a:off x="0" y="-27000"/>
            <a:ext cx="1619280" cy="863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3000240" y="1285920"/>
            <a:ext cx="5929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cd5b5"/>
                </a:solidFill>
                <a:latin typeface="Tahoma"/>
                <a:ea typeface="Tahoma"/>
              </a:rPr>
              <a:t>SOWING,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ac090"/>
                </a:solidFill>
                <a:latin typeface="Tahoma"/>
                <a:ea typeface="Tahoma"/>
              </a:rPr>
              <a:t>REAPING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e46c0a"/>
                </a:solidFill>
                <a:latin typeface="Tahoma"/>
                <a:ea typeface="Tahoma"/>
              </a:rPr>
              <a:t>KEEP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SportsCar.jpg"/>
          <p:cNvPicPr/>
          <p:nvPr/>
        </p:nvPicPr>
        <p:blipFill>
          <a:blip r:embed="rId1"/>
          <a:stretch/>
        </p:blipFill>
        <p:spPr>
          <a:xfrm>
            <a:off x="2484360" y="836640"/>
            <a:ext cx="590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52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Calibri"/>
              </a:rPr>
              <a:t>  </a:t>
            </a:r>
            <a:br>
              <a:rPr sz="3500"/>
            </a:br>
            <a:r>
              <a:rPr b="0" lang="en-US" sz="3500" spc="-1" strike="noStrike">
                <a:solidFill>
                  <a:srgbClr val="ffff99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The Engel Scale: Sowing and Reap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63640" y="1676520"/>
          <a:ext cx="7056360" cy="4479840"/>
        </p:xfrm>
        <a:graphic>
          <a:graphicData uri="http://schemas.openxmlformats.org/drawingml/2006/table">
            <a:tbl>
              <a:tblPr/>
              <a:tblGrid>
                <a:gridCol w="2664000"/>
                <a:gridCol w="4392360"/>
              </a:tblGrid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1 -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God is good and Christians are OK.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4 -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Basics of the gospel messag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7 -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Counting the cost and making a respon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n evangelistic strategy </a:t>
            </a:r>
            <a:br>
              <a:rPr sz="3500"/>
            </a:b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needs to include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92000" y="1905120"/>
            <a:ext cx="745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 1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 2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Reaping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Keeping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19280" y="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Tahoma"/>
                <a:ea typeface="Tahoma"/>
              </a:rPr>
              <a:t>Having a Strate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1835280" y="1371600"/>
            <a:ext cx="6927840" cy="55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’s basic strategy is clear in 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Go first to the Jews or God-fea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stablish an evangelistic church 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Having an evangelism strategy is 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not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unspiri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Sowing 1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19280" y="162864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Be a secret pas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Offer practical hel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Hold a party for your neighbours (The Big Lun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mily Fun 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Become a school gover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lay sport for a local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Sowing 2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727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mily ‘café style’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pha / Journeys /Wellspr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ir Trade / Christian Aid conc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rayer Spaces in sch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Songs of Pra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‘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resh Expressions’ eg Messy Chu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Make the most of Christmas, Easter e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Reaping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19280" y="162864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Retreat (Quiet Day, large Christian eve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ointing people in the right dir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F Clu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Keeping strateg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1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What helps people sta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a sense of belonging, small groups KEY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a place to serve and gro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healthy, open and trusting relationshi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leaders able to lead, motivate and equi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19280" y="304560"/>
            <a:ext cx="752472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What nex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286000" y="1981080"/>
            <a:ext cx="6072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ncourage leaders to read </a:t>
            </a:r>
            <a:r>
              <a:rPr b="0" i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, Reaping, 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are with the church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Use the training materials to involve the whole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19280" y="45684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A paradigm shift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19280" y="1989000"/>
            <a:ext cx="75247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Four changes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to shape a strategy for evangelism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763640" y="476280"/>
          <a:ext cx="7056360" cy="5989680"/>
        </p:xfrm>
        <a:graphic>
          <a:graphicData uri="http://schemas.openxmlformats.org/drawingml/2006/table">
            <a:tbl>
              <a:tblPr/>
              <a:tblGrid>
                <a:gridCol w="1028880"/>
                <a:gridCol w="1323720"/>
                <a:gridCol w="1176480"/>
                <a:gridCol w="1174680"/>
                <a:gridCol w="1176480"/>
                <a:gridCol w="117612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One (Network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One (Pionee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Tw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Rea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Kee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hildr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ee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dul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aby Boom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ni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ami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1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     ‘telling the truth’ as the      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         ‘outworking of love’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2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3" marL="1440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requiring people to ‘make a decision’ a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being part of a process and what the Holy Spirit is doing in a person’s life over time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3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making convert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s about making disciples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4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3" marL="133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a few gifted evangelists proclaiming ‘the truth’ a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bout every Christian being good news in their neighbourhood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abou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the outworking of l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being involved in what the Holy Spirit is doing over time (proce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making disci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everyone being invol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LifetMan.jpg"/>
          <p:cNvPicPr/>
          <p:nvPr/>
        </p:nvPicPr>
        <p:blipFill>
          <a:blip r:embed="rId1"/>
          <a:stretch/>
        </p:blipFill>
        <p:spPr>
          <a:xfrm>
            <a:off x="2771640" y="907920"/>
            <a:ext cx="542304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Two important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Question 1:  Where on the scale are most people in Englan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t the lower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Question 2: Where on the scale has our evangelism been direct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t the higher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16:37:42Z</dcterms:created>
  <dc:creator>Mary Parker</dc:creator>
  <dc:description/>
  <cp:keywords/>
  <dc:language>en-US</dc:language>
  <cp:lastModifiedBy>Mary Parker</cp:lastModifiedBy>
  <dcterms:modified xsi:type="dcterms:W3CDTF">2012-01-13T12:40:28Z</dcterms:modified>
  <cp:revision>16</cp:revision>
  <dc:subject/>
  <dc:title>PowerPoint Presentation</dc:title>
</cp:coreProperties>
</file>