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8CF0B-4938-4EF9-BD0D-C9B580BD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4F91E-13DC-4ED3-9704-776D0EE4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BA96E-8E1C-4651-A05D-A39C0C81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605E8-A713-4A7F-B7E0-301D78CF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C5C94-B626-4C6B-BC21-110140A2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1C5F2-F8F2-425D-99AF-CF00A056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76616-FF92-4AAC-9556-D9A644AF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D839D-C199-44F1-888B-6AA2049F3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B9796-8738-41B0-8A57-561B6A972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831DB4-354C-4C35-8284-57502EE86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F22BE8-E91C-4BFA-83BA-F7B76F34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703955-EF96-45E8-81C9-44CAFDB8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6649FF-CA5E-40D4-83B5-0F3E70EB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ACE6F4-9B43-4924-BFB1-4427FEFF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F7D83-D455-4068-9CE1-BEBF7F76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8EE858-8FB5-4C3B-A1DB-C3ABDA4C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6DC87E-2892-48B4-8AD2-0E10A2C8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805B7-FBC8-4443-AD23-101DC776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C33CA4-E1A3-4143-B2F1-750E9FA0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C368E-21CB-4C49-B8E0-BD8FA82AE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D7B34-9BE3-4E8C-BC57-B3F8EAB71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82703D-FA75-449E-9C26-2F177E3CB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037045-1689-481A-8C18-3972E50C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117CE5-3A3A-42E1-815E-6D9A2775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4E37F7-C30B-4225-B702-6BB02BAF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F28C03-7C1A-4474-9F90-F1053B2D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00DEEC-190F-4DBA-91AC-E876BAEC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A1A7E-4E49-4D55-921D-29F709BD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FE68CC-1260-4BBA-BB62-D232B330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C3443B-E048-4407-95B1-38FC3A77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5982-864B-4AFA-A7DA-E948B8CF5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05264C-C1DF-4CF9-9D52-B5FD8F55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A9F07F-6A5A-483D-A585-EB0E1C9F7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FE8A81-61AD-41B3-9DD9-BFB87580B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C88338-6E03-402A-A75F-D6B6E8FBD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3CC61-344F-4DFF-BB76-923B30E1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DDD29-838D-440F-9A78-A636E7F2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1517C-20FF-40E3-B539-17B23B17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1CF75-329E-4AE9-AF4E-612A9350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617D03-C10D-492C-B33C-0686DDC9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C0A62-2984-403D-9FF2-EAE76555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0620-15DA-489D-A213-83B5A0AF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9010E-F3D8-45F1-AF87-1452D154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A4671-00E5-46EF-A56C-D7C66BAF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791E6-2FE2-4F7E-8243-E84E5F57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32669-5A70-4B59-9548-D855E2402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CA717-CE82-42CF-BBA9-42F17841B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ACC8-2E3B-4BB2-88F1-FAF26EB8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29F3-1C99-4332-8F0E-40CCBB40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E03D-9436-46A6-A480-6368B3E3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DC0F-C5F9-4233-997C-5F32BBC2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9338-52BD-4931-B704-F06FC4A7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CF11-560D-4AC9-A4D3-78A013E9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06FB-3E8F-46EA-BB09-320EF83B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ED48-E7CE-4572-9633-1ACCB7F0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A64B-38E7-4D5F-AC74-B24E1BDCA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1BCC-2B47-456B-8F20-6550346EA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6872-4398-4DE8-80C0-C54EA9B2D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E17D-0947-43F3-9578-4FE19152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2D51-ADCD-4EF6-8C81-D83BADD6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F6DA-8150-4425-B664-E09E68C3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9006-9D07-4809-A43D-50F06B7B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9169-74CF-4033-8BFF-47AD1DE1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1DC7-7728-44E3-99C3-656E102C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5D81-F610-476B-9FD4-3FCD902C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BB0C-C286-4754-98D7-471122B0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1BC5-619F-446D-8DC7-9EF984A1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B9AD-2C3B-4531-8ACC-40D66A3D2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1F0D-F22B-4160-AFC3-562752DBB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BC54E-4EB1-4C2E-9531-757E53E6A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CF1ED-7860-46B4-BDB9-77F0A10B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CB9CA-82E1-46F4-B4DB-BAC75639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A6BC3-ED41-4E8C-90D6-735000B7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B8347-A174-492B-A591-E24E67C9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36099-5420-42F8-9591-302D826D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3CEE8-6F5B-4B42-BDD6-CE146953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C14F8-6C08-46E0-94FD-D78487D4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A5D82-B398-41D0-8775-1CA72785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D8A08-7490-40D0-85FE-2F4FBA46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6A729-4720-4274-8F53-BC17081CC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C33A8-EF4B-40FB-9859-DBE2A5BC3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BF7B3-8C08-4ED9-950D-C47504D2B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16769-0EC0-4E13-81B7-6719C6CA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45040-5232-46DF-927D-A323F2F5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FFA4F-41E1-4CF5-94F6-535C74B9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A59A3-A4FF-4CC8-B5B2-B13621E2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A5767-81B3-4082-92FF-EE5FA64E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852B3-E82B-4882-A41B-DE3A8D3D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2C76E-D394-4023-9C57-A18AF8D3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DA6D0-E76C-470D-9546-2024BC26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F1E9A-2F60-4628-BD12-2423AE41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E6652-DFDC-4519-BCDF-AEC874E6A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1AF00-DB8B-4E6E-92D5-1EFB9F4B5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A40BA-161E-421F-ACB3-1B1D4BF7A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7AAF3-ABF8-4013-A0C0-F10207BF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FDA78-D511-47E6-9110-D95F590B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BDB1D-8EA6-4AE1-B213-86C8AB59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AF474-0C36-4A71-ACF3-DB98C77F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3AA01-121F-40F1-999D-5CA058D2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E4511-3A8A-46FF-9C74-6ACA1B91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0E03D-D664-41B5-A5FC-A552C6BD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29760-949B-4845-A2B2-636831FE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56F6D-5D81-41AC-B48C-A5E8A4E0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DAA9F-77D0-4758-ADB5-8631B0D28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6FD20-2905-4D59-8499-20B4946C9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56462-7090-485D-A7AE-EDB8C82BB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FE809-7430-4305-A038-68EEEA8B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9F78F-37A5-4E07-A66D-9A4B3C99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10B92-97BC-4253-BB0E-7E530B72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56814-911D-4C44-94A9-4F5C09FF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57488-295E-4AAB-AF04-B64375CE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F7F54-B2FE-4A64-B90C-3B1471F3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B27A5-7B80-4AA2-92F3-190EEF7E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2567E-9C8D-4F53-8CF4-C5BB1FAF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D1CD9-11B7-4128-B769-B8B6DA2B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415EB-82EF-4C7B-88A5-F56332F05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5289B-37F3-4D11-9BCD-EF355FE6C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78AE5-403F-4B23-A47B-21F3CF9A0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D7552-4102-406A-BE06-C964DDC3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E0DCA-BC45-463C-A3D9-5A103A5F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8E462-BEA5-4CA7-BBF3-E15BD8D7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5307A-E49D-4384-A57A-91BB8225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7F9A0-1BA4-40E5-9090-A90D3E0C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B8093-6666-4340-B54B-36690577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64806-3F73-4E20-8109-CC5B44FD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E2405-BBAD-41C6-B998-9A017E9E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FD64E-5746-4318-BC6E-3D0E3311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C4580-DCD1-4FA0-A496-9EF2189DD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E7BCB-B895-4E34-9624-D78BD3020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0947F-0008-4D49-9809-6164A4D1A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85466-47D8-4D76-A00B-B46A6826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C0385-41A9-4A30-94B1-279CC1B6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2809-CC1F-42F8-BD85-9FC6D220D00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DF50-5412-4DAC-9C13-4E1A6235024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BD57-53FF-4C6D-A5FF-1754263DCAB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FA1E-6D25-4F46-9757-705C8C0D9D8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C3AA-A581-4594-AC48-EF2DC1E2956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B251-E666-40FC-B94C-A2B95845980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F770-0533-4A99-A520-D1276DF0A38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80C2-2EC3-46F5-9F45-FE0B07B6FAA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C644-5D08-4666-911B-B03A21A60EB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8379-643C-4BF3-B99D-371AD8EFC91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8852-E311-4B67-A61B-E4F04A7DF52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95280" y="1844640"/>
            <a:ext cx="7856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Relational Factor: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He says count conversations, not just conver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2 The Narrative Factor: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isten to their story; share your story; share God’s story; not just propositions or formu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395280" y="184464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3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Communal Factor: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xpect conversion to normally occur in the context of authentic Christian community, not just in the context of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4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Journey Factor:       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To see disciple-making as a holistic process and unending journey, not just a conversion ev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Box 5"/>
          <p:cNvSpPr/>
          <p:nvPr/>
        </p:nvSpPr>
        <p:spPr>
          <a:xfrm>
            <a:off x="395280" y="1844640"/>
            <a:ext cx="7856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Holy Spirit Factor: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Believe that God is at work ‘out there’ in everyone, not just ‘in here’ in the chu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6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Learning Factor: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part of your own discipleship – not just the other person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5"/>
          <p:cNvSpPr/>
          <p:nvPr/>
        </p:nvSpPr>
        <p:spPr>
          <a:xfrm>
            <a:off x="395280" y="1844640"/>
            <a:ext cx="785664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7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Missional Factor: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recruiting people for God’s mission on earth and not just people for hea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99"/>
              </a:buClr>
              <a:buFont typeface="Tahoma"/>
              <a:buAutoNum type="arabicPlain" startAt="7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8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Service Factor:  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one facet of our identity as servants to 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24Z</dcterms:modified>
  <cp:revision>15</cp:revision>
  <dc:subject/>
  <dc:title>PowerPoint Presentation</dc:title>
</cp:coreProperties>
</file>