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706BB-148D-4CA4-8952-096301ED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3889E-8859-4C7A-99BC-2057587B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E99E9-5A9F-452E-90D9-FCD4102B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E1746-9468-4F99-8589-4DB8CA36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00D1B-7A15-4774-A693-EAE1BF01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2E901-C730-4F39-8DC3-0EA98A38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5B717-796A-448E-8740-B3A28DFA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A229E-74A6-492B-9B0E-091D46C36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FC7D9-A631-43FC-893E-0F79D3A9C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7DEC75-38F8-45C3-A759-FB47D869C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190E5-E132-43C5-A41B-7FA6505F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F8A09-5CD2-4AF9-BD56-5F0D616F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2EDFA-EE6A-4CEB-A645-06346303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A569E8-8833-4E52-B1D0-BBA4D404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A0ECE-C8BD-42DE-9168-4CAC27E7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1FAE2-45F5-412C-8C71-4ACD1B9F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A4B00D-88D7-4B66-B377-28A37298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575AE-037F-4DE5-A6E7-19ADD496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30F1E-17B2-4DD7-90E7-5A5F8967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2F000-86F0-4AC9-AA6D-D2B8C7EB1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2747B2-D8F6-4D15-A574-7AF9C9B9D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363A0A-6D1F-4DDE-A23F-6EA0B8DFD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C8D05-A4FC-4347-901A-4AEFF937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D5514-11FF-4854-910E-E50F0936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A690B-D3A7-4A4C-9023-CC0EC719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7AB9B9-6F17-4527-8B5A-0ED6A248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D92CE8-F19C-45C3-890F-C07C6BB3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77A4A5-4AA5-4AC3-A918-6F8DCA74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1732B7-BE5B-4861-BC8B-69B61AD1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F9E3E-E4FC-4220-BD41-7C26F40F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76CC-4F9E-4B25-9A44-82047786F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F57931-49FF-4022-AF7C-C49A46A2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A86342-9F64-4F66-B642-57259F1F4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455FED-9942-45C0-8964-7CBF85DB3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E01E6-FFBB-487A-8187-76EED1B57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88E05-51A3-4342-B799-6605C336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3A99B-918C-43C5-B4EB-906108C2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44C02-CFBF-449A-B6AA-FC70F962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A03C1-7B57-4982-93A7-EF42D868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510D9-DBE7-4CB0-8EA7-E9AE1B43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E715E-43C4-42C8-9127-F3B40053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9033-2973-45CE-A654-31DD8652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5851E-3B90-4E4A-92FA-D569E84D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87CBA-098E-4ABC-8216-733DD57E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C5BD1-76D6-4F8E-8067-778682C4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2F9CC-6FF3-416B-BD95-2EE7AA16D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4A5B9-C77E-4200-819D-286E351BA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7B71-659B-4E5A-BDBD-3829ACD9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3BEB-F80C-4EA4-AE14-ACBE1B8F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2299-1F8B-403F-99CD-78EF53E7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668B-11B5-41BC-B3F8-A0833CC0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F632-CEC1-48C6-A69C-4EEFBBE5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1B91-B23C-4C04-B25C-71C60D94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DE11-CEBE-4B44-A4CC-E1BE6773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B95E-FFF3-45E3-B192-9418C07E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09A1-7085-48E2-884B-B8EEEB240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F2D1-64CB-428C-B263-C2DFAB0EA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C57C-02D8-4927-84FF-9599DFB70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2A69-0DD2-4994-8F19-E5403942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F643-493C-4A10-BD06-A3C04428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55F1-6E2A-4E95-8C71-4AF24EE6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4A28-FD21-4468-944D-9E0F34C6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8BB1-56CE-4054-80D5-9E916B71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ECE2-0DEB-4F67-81E1-42C310CC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4AE8-661C-495E-9CEE-4AC93FA6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7A45-9124-4392-80A3-FFFCACE9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61EB-AB88-4322-8E1E-C859BF7C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F037-87C8-4B0E-B22C-0654D1ED8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29DC-75D9-4C57-96CB-D856395B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EE01C-C5FD-4AA6-AEE7-FE9BE610E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FDCA5-5F53-41D4-B7A9-9D371DAC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B2952-C4B8-41B6-B878-54FD4797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EE59C-EEB7-4933-BEDA-72A6A141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3D42D-D34A-42E3-BCC6-C468B69C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450F9-03D0-4DEA-84C7-316FCD71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25F09-6C21-4167-B992-35F0DFD7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BE4C9-99F5-46B7-A61F-73FED1B4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317D4-EA92-40E7-8F54-97646036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1D83C-68D2-4891-8F20-C91DA594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41173-1F17-4466-9A3A-7669B1648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F0205-9B74-42FA-8255-2772CBBB1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06B8A-E180-4D7F-B9AD-7F1303C45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95BD7-D1B7-4A14-876E-606C5A9B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D4537-D5B3-4293-AC3C-118E1B22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BE74A-1062-4FA4-AB9D-D3F0E214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16184-0128-477E-B12A-079A4C67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D4F09-F51F-4E70-86CF-AA63A64B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A768E-9C28-4B36-9513-2767B80E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2A682-7876-4AB1-9B28-FA7BA96A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A7F0C-EDE9-4466-8D3D-8617B217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6C69F-3C83-4292-BC95-F60E723B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7485B-B348-47FA-A6A2-C41A5697B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F2630-0DD7-49BD-B3D0-67A6BFDA7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DEEB6-5D14-4B62-95D3-D91E0AC61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9B325-D238-4052-805B-3D7BB4F4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63FA8-4E8B-40A3-B01F-877187AB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79A4D-07B9-43FC-A920-FEDDC542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FE607-7FDF-464E-B15A-05DEE7C9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0A0D0-93DD-40EE-84ED-C19826F7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BBB39-23FB-439C-B0D0-FCB11E0B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C16A7-0204-4B0D-B29F-B8AD6CA5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CC319-F4A3-4969-A550-CC30D71E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E019B-9753-485A-B0DB-0B2EC684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92B97-4B6C-44AC-A63A-B91E408DE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C1E30-BB1C-4BE6-97DB-6821EFE1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38ED6-5601-4EBC-B67D-3F7E9A878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56184-5D4E-402F-B2AC-41767B37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36B3D-244E-49EB-AA0C-8A804468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36A79-1C12-4EE7-9722-3CCC218D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79D61-32A8-4B46-9842-24343CA2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11679-814B-4938-974A-A348997B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7BF9D-6019-4C3E-A068-71EA6F04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C8CBE-ABFB-4EED-8A72-455067F9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11C67-8B8C-4F68-8792-783846E5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1C9AA-904A-4E3E-BB27-399101F4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6A108-F681-45D9-9091-AA1C7C311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AFE91-302F-42FA-BF1E-35206B131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888FA-5540-47D6-8051-26347C8A8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4F23D-52F8-4B80-8ED2-DFBCEE2B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DF435-B1A3-477F-81CB-A0108405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72552-6517-420D-BEDD-9E1DBA17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B868F-0C30-451B-97C9-A87F5897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4FC17-0CA9-43CE-B195-D699ACBC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90E27-B92F-4213-9588-C1F8B1A4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2ABEC-1B0B-4D22-A75F-AD863A59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1955C-F926-4D45-B1AA-0076474A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38476-A870-44D7-9AD8-B117911E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A29A6-509A-435D-88AA-D410A33F4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59A32-8060-45A1-B352-5758E5C5B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BEA61-41BE-4118-BB0B-3B86518C5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58177-B154-4501-9AE1-06B621FE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B3CD9-2FB9-44E5-B076-5D8DA893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4DDC-9F89-4343-ABB9-66E99368869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7100-10FF-417F-A47A-1F6BDAD3AD2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C33B-D1BF-4782-826C-9481E0389D0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0628-8907-4D3E-8734-A9806EAE290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5544-E99F-4658-9382-C56868FAB99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E5FE-B6EC-4FB3-A727-A789125DAFD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8DF1-B6CB-4A1E-BABD-7AF0415708B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8F89-1A83-42D3-8384-56A4F4ED9B4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1346-9D31-47D5-9E84-42180BA42FD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6924-93FC-43B4-9CCC-C0215C93903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A7C6-E15A-47C4-A4A8-8CD08C7C2DF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Discovering Your Place 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God’s Pla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Matthew 5:1-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24000" y="256536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 are God’s plans for the world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’s our place in God’s plans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Discovering Your Place i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God’s Pla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Matthew 5:1-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108000" y="2421000"/>
            <a:ext cx="8712000" cy="51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Being salt and light in the 21st century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Developing the character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owing the compassion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aring the message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12Z</dcterms:modified>
  <cp:revision>10</cp:revision>
  <dc:subject/>
  <dc:title>PowerPoint Presentation</dc:title>
</cp:coreProperties>
</file>