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812D1E-AE59-47C5-9A25-CB8C6DA2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EC2B9-4835-4273-9BB8-DBC1026E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3105A-A908-4338-9C57-729AE3B0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7A437-EA0C-40EC-B6B4-348F86D4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8B8B6-34BB-4EB9-B35A-71A1AC7A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711E0A-E2D4-477E-94FA-D443764E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647F0-B046-4B1B-BA55-44D8127E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86558-59E7-4E2A-A858-2AED3FAF0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CC827-5B24-49B0-8D90-B4E55AF7B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C38C4-015C-4E4A-A25F-FBF3769B7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85ADBD-A98C-4242-B62A-1BBB0E3F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B35F35-E810-4F46-AB5F-14DE195B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C759B1-E10E-4746-B0FA-C44A0B68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018A83-11F9-460F-85A3-CE1FF205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8A14C7-6D1A-4A7A-8DFF-B01C23D77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19DF0-26A0-463A-881C-BBC2464D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8415DF-9C79-450B-8F30-4122A417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E104D4-7F72-4029-AB3C-273D82E1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93D76C-74E8-4E87-A609-E67557D0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856881-2050-4BC5-92FC-CB73240EB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61200-E674-4069-81B1-8A2A8CA21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305F1-0E92-43B9-8B2B-4EB045FF0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7C4DA7-FD8C-40BA-AD83-6057B2C6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02DB37-9723-4AE1-AAF8-579D2EEF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F83F15-557B-45FF-887D-EE0E9B0A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98AD30-BEE7-4482-A34E-D212FBCF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FA1107-EA8D-4A40-BE4E-87334C5B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080908-EB28-4361-9944-D60EF811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D7775C-12B9-4904-90C8-BCC02C66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21D23A-BE89-4794-8E87-3176DEF5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813E-8E11-42B3-9B98-9A2DEAB64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DECA51-2B0A-45BF-B49A-1F89D54B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52944B-D7BE-40EF-A650-EDB4D6EDB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C0DC09-F34C-4226-A3A6-2D3FFE80F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05C3B8-0E4C-4ACE-9C1B-0E0BE0A77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C3CAE-F998-43F7-A676-FFAC8BA7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A2472A-E488-4F9F-BE4E-2B355568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471B3-B736-4418-9F84-F89049E6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71FC24-AEE6-4EE5-96C9-B682664D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F05F14-34E7-4E76-8BDD-74794736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7D96F-316F-4731-A3FB-CBB9BD71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1526-09BB-44A8-9DF9-72F36BE0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D391D2-6FA1-42AB-A763-7296B8FD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60BB7-14E6-440A-913F-3003BACF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3054B4-451F-4A1C-BCFE-53476009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478F5A-04F7-4391-83EE-8F7D34BC8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9B6DE-C3DE-4283-883A-35AD317DB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9D0C-2740-48DE-8F94-54BED2B1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942E-BDC0-49BA-B9BA-6BD16833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9430-5424-46AB-B533-902B18B6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4E66-CEAC-4D9B-94D6-25E622CE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FF42-6305-4A0D-A4F2-2987AB11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634F-1F88-4825-A799-756C57D0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4F6A-9596-46E1-B338-AB707DE6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EC3C-9DB5-4520-A90C-F4D756D0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FC43-25F4-4E1F-8D08-C3A66AC56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2BD6-76E1-4D4F-BA2F-23B0D9A6B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2E36-1C3D-4B3D-A641-C15A30818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0C2D-2A1C-43AE-8EEE-4244FB9D5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11C40-FF5B-4697-B1F8-84BE1399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C6D5E-E456-4E71-BB2C-B616B129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AF5D1-88BE-4E3F-A4B7-BE256A43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3149-8467-449A-9CAB-130616B8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8AB3-D67A-4AFF-A261-BA958484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9B21-46CF-41CE-8FB2-BBBD6AC9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D9E96-53F7-4EB7-B9F7-97A00410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5452-D278-463E-928A-B77BA181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0BBD-182C-4347-B6E9-84951BD30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B4C5-FF67-452B-9D14-D7B9A2F38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64FB1-1DA3-4ADC-8CE7-488659F10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33C5A-A7DC-485D-B2EE-F9AEAADD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9406F-0066-4EBA-A430-5CF8C17F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08DF3-2D5D-429D-B398-D4393BF70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67385-3940-4356-993B-F09DA2BC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3BEAA-8B99-48E2-982A-1A74EB99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8A2C0-64C9-4B7C-8CDB-41466DB8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41D85-B0BA-4F47-9B0C-853FE50D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B1382-4EEE-4CFB-98EE-6E949695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46EDA-F4CD-48C1-A89B-D7E2B676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5377E-A989-4A63-9E2F-ED6408D77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3D379-CCF8-4167-A967-0C390D57C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C6F5C-CCA9-49C3-B304-9ACABE943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A3304-06FD-447F-BE73-19F8330E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87984-9069-4130-A1F2-69A07417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966FF-1D80-4A85-9F89-76671042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473C3-26CA-42F1-993A-EDAAD33C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0F68C-32C6-475B-8751-290C9968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E22BC-3BBB-4BBB-8882-818866E8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842AB-C56B-4160-BBFB-DA4CF6A0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0AAA7-46E8-4AA9-9159-EFD9D8DB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BE978-F096-4B96-BF2B-6E846AA9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0923A-B091-458C-A853-645F6C985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C3F4D-5556-45E6-8228-0ACC4FFBB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A7793-9661-433B-8492-2EC445B3A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38BAE-2F3F-4FD2-8106-D406F201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BAC8F-AB3D-4CE2-9ADB-422E4961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A71DE-E238-42F8-8947-C7875E0B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FD3F3-F1C5-4350-B0CB-3E5FE04CE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5AA51-F564-4C86-A40A-927A7D68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273E5-C751-4973-B5A4-F6516BF9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E9292-4E02-413C-B92F-C11B73FF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017F2-22D5-4352-A0BF-36920081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F73CA-861F-4829-93F0-E19E3107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8168E-AA3D-4E5B-A945-4FE4782C3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D9DE9-F051-47E1-B512-F6EA46C2E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23A43-62F4-4BF6-BDAE-35A7E0955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C066F-9731-4208-B01F-32D04ABF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82085-7185-4BB1-A69C-E3ADBF62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F1A29-C2ED-4D67-84A0-AF8A4DB0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722E1-FC49-4ADA-A921-9F420BDE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99FCF-3CB8-447E-90E5-B1B3FCA2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BA34D-CAC8-415B-A6E4-12653D8B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18F55-4CB5-41A0-B1D2-6196B627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BF80C-4A3D-47F5-9FFB-1F19E42F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09081-5453-44B9-B82A-DA703A4F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CF610-FD8F-4221-8FCF-ECB8DCFB9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CC104-0A46-44BF-8134-DA250CDA5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FA311-1F91-4A64-9A97-D58D324D3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54B9A-2C65-4CC4-9835-C8AF7887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45F3C-3F4B-4905-BEB8-6CB3977E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0DC56-1707-4665-AD6F-E12C2375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93039-4C08-4B48-99AC-C86A7D4E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04704-208D-4717-8BE5-1705AD20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2F4AB-1346-4773-9125-44E66C6F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C21EC-3C56-4D71-84B4-D0F30B7B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6C919-39BA-431C-AA41-2421EB13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13218-BF9A-4276-9904-4F471B90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670BD-3A49-4C5B-9B70-1353437CB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DC3F7-A5AE-4DA3-ADF8-9020F3310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C8771-B3EA-4788-98CD-05CDCFCB8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AFEA4-2235-42EF-8CD5-A7A7F0F2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608FE-E467-4564-91A1-9702C257E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9983-0D16-4196-9DC7-6DC0CFBBE52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D5CF-E755-4CF3-9E7A-BB14EE46453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B8D7-C7A5-484B-BDB0-7937C7C7D3C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91C2-2146-4259-A49D-68BFA45AF08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9623-AD43-4F7B-9395-192DA5E5E71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91DF-EA9C-445C-ABA0-F9E7B1F6D80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57DF-6039-4135-8E42-DB793E8C678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B5BC-6939-4E68-8E9E-7728D66628D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4807-0811-410C-B686-19B31CEC3B7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8CCC-89DF-48B1-AB9A-39BE1699F40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30AE-4C45-4DD4-810B-4FF21A91895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609480" y="2214720"/>
            <a:ext cx="79614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895400" y="500040"/>
            <a:ext cx="539136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660240"/>
            <a:ext cx="578664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3786120" y="428760"/>
            <a:ext cx="2500560" cy="33336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2" descr="\\genesis\Mission\Refocus\Refocus Images\ManWithBoard_Blue.png"/>
          <p:cNvPicPr/>
          <p:nvPr/>
        </p:nvPicPr>
        <p:blipFill>
          <a:blip r:embed="rId2"/>
          <a:stretch/>
        </p:blipFill>
        <p:spPr>
          <a:xfrm>
            <a:off x="357120" y="428760"/>
            <a:ext cx="2500560" cy="33336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3" descr="\\genesis\Mission\Refocus\Refocus Images\ManWithBoard_Red.png"/>
          <p:cNvPicPr/>
          <p:nvPr/>
        </p:nvPicPr>
        <p:blipFill>
          <a:blip r:embed="rId3"/>
          <a:stretch/>
        </p:blipFill>
        <p:spPr>
          <a:xfrm>
            <a:off x="2286000" y="2500200"/>
            <a:ext cx="2982960" cy="39769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4" descr="\\genesis\Mission\Refocus\Refocus Images\ManWithBoard_Green.png"/>
          <p:cNvPicPr/>
          <p:nvPr/>
        </p:nvPicPr>
        <p:blipFill>
          <a:blip r:embed="rId4"/>
          <a:stretch/>
        </p:blipFill>
        <p:spPr>
          <a:xfrm>
            <a:off x="5857920" y="2595600"/>
            <a:ext cx="291132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43:21Z</dcterms:modified>
  <cp:revision>10</cp:revision>
  <dc:subject/>
  <dc:title>PowerPoint Presentation</dc:title>
</cp:coreProperties>
</file>