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78D22-589B-4000-97CA-7480B4AD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AD7BA-7F5E-4705-80F9-12B153F4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AAC2E-B779-4482-A1CE-0B0C5129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0040A-D6EC-45F6-BE5E-7CFFDD00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9E408-82C1-4F5E-B71A-29025EE0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082BD-D08A-4C5D-A06D-2505515E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CE8FC-85C1-4A55-9B1A-440E5DB5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4068E-CE40-4171-81E6-40011DFA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7DB34-5E26-41FF-A7C1-59E482FB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8C93D-1E57-4A9A-B201-ABE67A72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D7AD5-38AF-4984-B38E-FD5E5B71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FCAB2-8245-4E1B-8EDD-8948471A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3BECD-8BDC-453C-A9C8-9F4238E6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8D682-52B8-4A26-A0DE-78C5CD53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C5DF3-3502-48C3-926A-18421DF9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D518B-B073-423B-A85F-5C8ABE39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BFDE8-CBA3-4E9E-A6AC-A0106A06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19BFC-8C2B-4A5C-BF05-178A67A9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B0B2C-AAAF-41DC-95C7-EA102246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0F3A4-D0EB-4EE3-BA1B-48454DCC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4206C-3526-4A93-8205-A7CE9D09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8DCFD-D422-420B-A680-0769E5BC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46880-CFF3-4A55-8B6E-4E4C9B29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5E699-E9D2-42B9-A370-FD7FDFF0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35533-1182-452C-B0DD-CE604423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61A1F-1BA3-4740-88FE-5634B416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86348-52F0-496E-BBF5-2A561896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C52D3-88BB-4BA4-9352-3E81642A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F9FF6-D1E3-4727-94D5-C8173346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7C5CF-1C69-4E10-99C8-52D6D72C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3557-35DD-4DE7-B30D-A85B4C94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559E2-D480-470D-9056-1EF68219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9AC30-9981-40AB-903F-F6A4EF40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A65CF-FE5B-48C7-836B-34AE5615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23028-5E43-4670-9C21-E284AAA7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47DC6-228C-430A-9CFF-70A5C2F5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1C1E9-F93A-4AFD-9D8D-EFC4D227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85E50-24A0-4435-87FF-2D652767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3A271-37C5-48A6-97DA-0907F9F3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EED6F-B8D0-42EB-9340-EAAC1042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7F7B6-C4FA-45B5-9C5F-4E18DB49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B94-42FD-48E2-8027-EC3F2030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569C9-E59D-4C30-BB41-B829D6DE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A635B-196C-4279-90C9-D31B8E95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34656-4EF4-4E3D-92A9-43F85F23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E0BDA-CA7B-4721-979B-400DC708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168D1-AEAB-4E7D-B9D9-26585BFA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145D-8BF1-4BBE-AE4A-5D7BCE57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D964-6C96-4491-8BBC-15155363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26DB-8095-4112-92AD-7AF87BD2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F03E-4C2E-4923-BA0A-2717B3A0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9DAC-6331-4921-A34B-F4C28291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167D-5CB3-4A96-A5FA-2E297AD2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9426-53FD-461C-B6AE-7B04BF41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914A-1B2A-442C-8CBE-179292BB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BE66-96CE-4A57-8127-91745A9F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CAC1-AE1B-46EB-BA77-4AD29535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EEE4-4B16-4B73-ADFA-C5074FF4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8573-6100-4419-8781-D0B2715F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2901-A105-4E87-9F0B-7B763C7F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A935-6390-4ED9-81DF-E3A72D13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A1F0-C9BA-43E2-8A4B-0724FDD3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1516-B8DC-4466-ADE0-C6081A9E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0236-AF69-4D59-91F6-FA3AB3F6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6F41-12C0-4E63-B73E-2333FD86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D736-9BCE-4141-A0B8-41B2F872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2B34-9A1F-4865-A564-B7531ED7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9EF8-AAC5-4D18-8F9E-F4DEF863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BDD4-FB79-4D4F-9767-2E2417EA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A1688-1CD7-48DA-B067-EFBEA591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F332C-A39D-4E00-A4B0-9A89DA98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4398E-B475-46F4-B699-2BC05714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A191A-BF2D-4FF5-B0E5-32BC0E6D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79041-80AA-4D8A-9DD9-DA1639A0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F7380-C17B-4E8C-959D-E36B25B9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30EC3-C7EB-41A0-BBBB-FE205948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9BE4F-252D-475B-94AA-CDBB8351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2E1BB-C7A5-492B-B738-4235F167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2708F-9B4B-453D-BBEE-A8D2B6D4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2773B-6B82-4C73-AD1D-90410BAD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FFB6F-F07F-48D2-AA17-A2FFFF12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4EB38-0263-4C56-A460-C33CB493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F63F4-74BF-47D6-9FF8-CCD51722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53302-4DBE-4278-8CFC-FF6D6D67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7A2A5-8F1E-4287-8E12-232C71DE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F2C4A-624F-4186-89C0-EBD1A32D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5A2D5-DE6F-4608-ACB5-96C0D1A0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CCCE6-6F4F-40B8-B815-44706304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81A70-02F2-4C0E-AAE4-BFEF1077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B9034-4046-4D01-BD33-2DB863BE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50E79-EEFF-4DC2-8D81-95B58995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47742-A8E8-4AD4-8DA6-F5801C55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02BDA-5C46-440D-B231-FE290F80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33D87-5FB5-44AE-9F9F-327BF0C2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E8D83-E959-494D-96EF-17062D65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4CEB5-DEA8-4EAA-878F-A9AB8A1A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EF4E5-AF97-48BF-8E5D-9F5D4B91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1ABDF-6BC3-4029-A128-218799D4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9567C-DB84-44E3-828B-752B79B9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F9728-5C5C-4480-80DD-B268AB72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C9DBB-ECCF-488B-AE73-F8035DEB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62925-2B6B-4CD9-8FA3-42C3A924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E6B0E-F4E9-40FC-89F3-5F601E59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B8762-3E0E-4802-BBF0-22287A6A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33602-2CF6-4ACB-960C-9BF53739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6569C-2DB4-447F-B5D1-190E8215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BF5AF-E9AB-40DD-823F-AFA5E1DA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7C67C-978A-444F-9692-B4B2111C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9D20F-77BC-407C-BF8C-E4321FF3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63D98-87A5-4F8B-AEA9-00346550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09CCB-1B66-40BB-84E7-7D0A0499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F0760-3C8A-4B76-9D1F-61E53239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769E3-421C-4F7F-B599-E2CE8A3B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55189-D928-4483-8768-8EB40235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54DFF-0E68-4D0E-8180-8E26CCF5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A00DF-D043-43B3-8659-8114F94C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25FBF-5FEE-47AC-8172-8874713A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70E12-E491-4DB4-BA03-A1EB1F81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F49E9-FAE5-481B-A7A0-C3CB3253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12C1F-A551-4C17-B6E5-1E6FD962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BB4E5-D6EA-4718-A4FF-B28E01D7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76AF1-FBB6-40E3-9400-6B33E80F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BA051-A70A-446E-B925-96C6E080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FADF7-E392-4793-8B6F-99939181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DD25A-9B9A-4149-9F04-69573B85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C9144-20A9-46B5-8B70-C24C3EB0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1A209-20C8-4AB5-82ED-C627EB70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FCA2A-BCA0-4DEE-9E2F-765119C6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42C08-113F-4CB8-9746-70068C98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5274E-EA80-40F1-AC0C-80F490DE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83CAE-D108-4624-B0A2-04296C66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36B5D-D84B-40BC-B497-9989F410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E34B-8637-4587-A416-90BA4B7A0B7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E801-DF4F-4F91-83A7-60C401593AB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C964-98F0-49D8-947F-D96439390C2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61B6-3BEF-49C3-A8C7-C8CFB95C8E2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37C5-593F-49A1-B67E-6048379499A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414A-6B95-4865-AD9C-A704926C277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86E5-030B-4BDA-85E5-B9B5C6864C4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1CE7-08D9-428E-8057-9FEB05EC8B5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FF22-BF01-4095-AD6C-4C9C04D9C38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5CDC-6BB8-4442-8DDF-09C14D7C444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1018-C45F-451C-9289-A310C42247A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609480" y="2214720"/>
            <a:ext cx="7961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895400" y="500040"/>
            <a:ext cx="53913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660240"/>
            <a:ext cx="57866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3786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\\genesis\Mission\Refocus\Refocus Images\ManWithBoard_Blue.png"/>
          <p:cNvPicPr/>
          <p:nvPr/>
        </p:nvPicPr>
        <p:blipFill>
          <a:blip r:embed="rId2"/>
          <a:stretch/>
        </p:blipFill>
        <p:spPr>
          <a:xfrm>
            <a:off x="357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\\genesis\Mission\Refocus\Refocus Images\ManWithBoard_Red.png"/>
          <p:cNvPicPr/>
          <p:nvPr/>
        </p:nvPicPr>
        <p:blipFill>
          <a:blip r:embed="rId3"/>
          <a:stretch/>
        </p:blipFill>
        <p:spPr>
          <a:xfrm>
            <a:off x="2286000" y="2500200"/>
            <a:ext cx="2982960" cy="3976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\\genesis\Mission\Refocus\Refocus Images\ManWithBoard_Green.png"/>
          <p:cNvPicPr/>
          <p:nvPr/>
        </p:nvPicPr>
        <p:blipFill>
          <a:blip r:embed="rId4"/>
          <a:stretch/>
        </p:blipFill>
        <p:spPr>
          <a:xfrm>
            <a:off x="5857920" y="2595600"/>
            <a:ext cx="29113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43:21Z</dcterms:modified>
  <cp:revision>10</cp:revision>
  <dc:subject/>
  <dc:title>PowerPoint Presentation</dc:title>
</cp:coreProperties>
</file>