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97EAA-2AC0-488F-8F21-FF5AE16B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17411-A0A2-47DC-950D-A2216620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D2341-9461-4B07-9170-9E2B2608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93C68-0F83-4ED9-B6BB-548A4C2F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D7A08-7278-433C-8DC6-801F00E7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53F7C-0CF5-43BC-A0DD-45606C67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5C620-9848-4493-B241-06047831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1541B-8C86-431E-BAFA-2CE3DDD4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D84F9-A7FE-4EE6-A5A3-6A5D15D9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910F7-5E8A-46F7-8C2F-C1EB4258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4F5F3-6716-4ECA-A2CC-91C42D85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6049C-298E-4966-8480-0578A0F7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6324B-9E6B-4AAB-95B2-374AF07B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22338-C151-4F39-B122-A543F9B5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65729-62DB-4E1C-8C63-16666C6A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6F47D-DCC7-4230-A6D7-BA6F568E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FDC7C-3CBB-4E79-822A-F15D8719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45229-B3C8-4545-9886-D4FCBB72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E49D9-E7E2-464C-89D8-ED5E0356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1B8C3-E630-45E5-AC4F-B629957FA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2DA54-E183-4963-8C1E-9CA66CB6B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A5AE4-21EB-4396-9715-9C48BD39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670FF-11BA-47AD-99EC-8AF08AA0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3F98F6-7E54-4DB4-8C0E-8BD34FE3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AC0D9-94FC-43B1-9E5B-8DD5AF03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5C3738-85F3-4633-8989-2F8E59DA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3AE82-F8D8-46C1-A707-C31F7D7E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1EFDEA-644D-43C5-BEBD-632FA3FC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F1377-E1F9-4451-B682-61F51732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5E3F9-6F4B-4E70-A111-FB4B890D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D119-F96D-4A3B-8864-4CE43737D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4F79A-20F2-4712-BDBD-05FF8C76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CC837-07A8-4FA5-A2C3-EBE51FFE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27A2E-9D0E-4655-8465-D8FB9C8F5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24175-214D-409D-9B7F-BB596DCF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64617-F0F7-4B6B-A096-B8D5BEE3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DB81E-F171-411A-A264-D1111026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2FDFC-327C-485E-8566-6B8B1B55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026F6-8996-4027-B89E-6A2C4AE8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BC15E-2B46-43A0-BA9F-D2199896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9A290-00F6-4EA4-AFF3-747406E4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39F7-D98C-4876-86B4-02EB3D56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CDB61-E645-4507-BF7A-24A16F2E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4CFBD-F2F8-4058-BC3B-E6F4A660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442B5-2EA4-4F48-BD30-678BB66E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94A78-9665-43AA-8F0B-FB6971E2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31CAD-E46E-4DE1-993D-E609BB6D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3412-AE64-4643-A955-2B182679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233E-E9C5-4F21-AC5F-5064EC14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F1DC-394D-46FA-AE2B-D52C4FBB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A3CB-00FB-4179-A1C3-B47B2E21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F04F-DA31-4AD2-A639-3E92EA92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052C-DF6B-4C90-987C-16750939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E9DF-DBB7-4BED-B843-A0CED12E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9B80-CEB7-4BBA-99FA-8FB27F98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BCE5-5247-45C7-9FD0-171BAC655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31B8-8186-4689-AF07-E18476D2A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43D6-7B37-449D-B30E-E145DC76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02A2-CD33-46BC-B7AD-6A708B68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53F4-9921-4E4F-B071-3A9419FA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9D15-8EE1-4D87-8DA0-EA821C54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E240-A83E-46A5-96C4-DE51AE8C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04C7-3811-4E4E-8775-BFD80CEA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18D8-229A-4B9D-855D-E34C6DA4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2F5C-B2E0-413F-8978-7A32FEA3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E457-3D34-4074-82C3-DA8157FB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7683-B13B-40F3-919A-C053CC44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EBAA-1236-4C61-A7E1-E04D390A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581F-9D1C-4DE4-9FFC-2FDB3287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A2631-BAA4-4524-A43B-C61D8D9B2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C5559-DA3C-4762-A36E-FA36693D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D8E1E-4EF6-4A33-8528-39AC7A8C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74ACA-CFB1-459E-8700-0F3ECF9E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E9F03-6505-4258-8E6E-2D542C9F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F2C9A-17A1-4E3C-A461-D0B19B3E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DFFF9-FFC9-40ED-B93B-709DED97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47BB7-4308-4308-9ED1-6B471E0E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26F7E-A9B5-4170-AA4C-B722E8E4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1E91E-25F6-4CF5-91FA-EFA4106D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539B7-08E6-417A-B75F-5A9650818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C8870-A47F-46DD-B2DD-4DF7D1C3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01FDC-AAB0-43D2-BAB3-04B5C241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F663A-2BE6-4523-9E41-E1D7994C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22372-78AF-4EEB-A996-3A7388A8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6948A-54E4-4D78-9DB4-1B486D1C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8229D-B7A2-43CC-A3C1-75ED01F8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5F3C1-F07D-4D3F-AF65-8327DA72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FE1AD-4A94-4929-A379-3B634FAA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297A9-A6D7-4EA9-BCB3-BAE12B48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F6D95-6454-4CEE-92D4-C65DE42F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AEE6D-75C2-46B0-A9EA-661778FC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FC061-E021-42BE-9DDD-2B56B009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AA82F-8F8D-4DA6-928B-AA05BED39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88620-49D1-4787-AC19-145C3184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075CE-1887-4562-9A85-680669BE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25BEE-FFDF-453F-93BD-583D99AD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F910E-A19E-46FE-AF23-1EDF2302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DD74B-0A30-4719-8926-7E7392E8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1AB49-61A1-439E-A9B1-BED0D272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D8B4C-C17D-489B-9184-58447C64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76615-546F-4D0F-B8F1-F504244D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1E181-8B4C-420F-BBA1-4AABB4C6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BE256-0EB3-4A0B-A9BF-72BCCBFD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D2709-F266-4AD4-9BA4-BA857709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21AE1-33CF-4D4E-98BA-07C5AA11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9826B-1FB4-4AAC-B692-858FE15D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EFCA1-E51B-4253-8828-602E9804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8BAF4-4965-4BAD-9B34-7B28EFAA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9A4EA-EB0F-480A-9D23-893ACA61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1ADD8-5CD5-419B-AA0C-3B92B519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1E185-0EFF-43D9-A84E-0EAEB851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CA4A4-7BED-4316-817E-4D1031B5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2AA1A-49B2-4DB5-8E3F-84A45DFA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50FA0-3EFF-4F75-86DB-5BD7FB3A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D356D-5FC4-47DC-8741-E58C29AB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FB6B3-5FB5-485B-90EA-CE5D436DD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060C7-EA99-416F-9FC2-6C24E7DB2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7A1C8-67E2-474C-854F-324CE49AC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43BCB-7C19-428C-B7BF-FE20579F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E0C0C-C338-4E69-AE5A-1E3D45C4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65D93-C07B-474A-8943-DB4E5AD1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FD90D-4468-4D0D-B3E5-7D44CF5F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B241B-1A8C-459F-BA88-F682BB4E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0D466-1F07-4DFD-AC05-A68B91FC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A07F4-F0B4-4870-9F3C-BBDD06EB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6DECB-980C-441D-A8BF-7A83E267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3CB1D-117F-4071-A75E-1E937AF8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D0D1A-CE58-4A06-A597-4CE08D52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83512-BA07-41E8-BF1F-84EB9BC1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CC976-CAD3-4D72-A2AF-4CC7B8AA7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B5E12-DC1A-41D6-AB79-65A0B782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DA43E-22FB-405E-A0AF-2FC2EE8C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1BA9-461A-4AFF-A9FE-8C7252C5521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6B56-C9D6-415B-AB1C-175A6066999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28A4-9A01-4C2A-A0D5-B5909FFCCC1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D659-49F9-4C10-9443-C13345F4375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3A33-4273-4767-AF16-A771E3AA889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B1E1-823A-4625-A39D-D877BF3AC93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0D87-3AC1-4E27-A2A2-190CECD241E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A5D8-5BE3-45D9-9E72-C527C95D6EA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F206-9F61-482E-9E0E-DF9062259BA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71EA-8DBA-4CDE-AEA1-6FFC531BC92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F943-3199-4403-A751-A6811A09FD2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" descr="TCWS1.jpg"/>
          <p:cNvPicPr/>
          <p:nvPr/>
        </p:nvPicPr>
        <p:blipFill>
          <a:blip r:embed="rId1"/>
          <a:stretch/>
        </p:blipFill>
        <p:spPr>
          <a:xfrm>
            <a:off x="1471680" y="536400"/>
            <a:ext cx="62388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TCWS2.jpg"/>
          <p:cNvPicPr/>
          <p:nvPr/>
        </p:nvPicPr>
        <p:blipFill>
          <a:blip r:embed="rId1"/>
          <a:stretch/>
        </p:blipFill>
        <p:spPr>
          <a:xfrm>
            <a:off x="1428840" y="536400"/>
            <a:ext cx="630540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1" descr=""/>
          <p:cNvPicPr/>
          <p:nvPr/>
        </p:nvPicPr>
        <p:blipFill>
          <a:blip r:embed="rId1"/>
          <a:stretch/>
        </p:blipFill>
        <p:spPr>
          <a:xfrm>
            <a:off x="1536840" y="536400"/>
            <a:ext cx="610704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" descr=""/>
          <p:cNvPicPr/>
          <p:nvPr/>
        </p:nvPicPr>
        <p:blipFill>
          <a:blip r:embed="rId1"/>
          <a:stretch/>
        </p:blipFill>
        <p:spPr>
          <a:xfrm>
            <a:off x="1577880" y="536400"/>
            <a:ext cx="60264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0:25:34Z</dcterms:created>
  <dc:creator>Mary Parker</dc:creator>
  <dc:description/>
  <dc:language>en-US</dc:language>
  <cp:lastModifiedBy>Mary Parker</cp:lastModifiedBy>
  <dcterms:modified xsi:type="dcterms:W3CDTF">2012-01-16T10:41:24Z</dcterms:modified>
  <cp:revision>3</cp:revision>
  <dc:subject/>
  <dc:title>PowerPoint Presentation</dc:title>
</cp:coreProperties>
</file>