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1A61C-DED0-4C96-AFE7-677D6D11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4D867-2DE0-4628-B86D-A941F516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77F4E-E1E0-402A-A8CA-F97C3E9F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7C8AD-7E20-4C19-8177-32A17C63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B7335-F205-4B3D-B06F-0D542396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5D5D1-845D-4E5D-8027-60761F97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10940-E889-4FB8-9DCB-AF0FF0B9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F8E2C-8A8E-4684-8F63-18FBADF4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A9263-6154-4A94-9930-23CFFACC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34E41-11D7-4BF7-8990-15264450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2CCDD-3B48-49A3-B160-D212F81C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CE2C3-D804-4FED-9321-49100CF6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BA97D-200B-4DB3-A06E-EA658962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7FB75-9DD1-43E7-8A2F-E0D74496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826B5-B938-4F1E-B51F-8F70B4D8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2660A-8200-40BB-80B8-172F5968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38219-E248-4171-84D8-BDD5C5BA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DEA38-5F96-4111-A421-FEC32B79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BDF16-0246-4825-BBBD-244DC507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FD7F0-7322-4187-8E74-29423D4E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1C476-1FA0-472C-BFE7-948FA611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7308B-DAF6-4A13-B005-B6FE8219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468FD-4785-421B-8E89-50B2A2C2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744FE-E94F-4F5F-8BA2-D4EBFB95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19221-FE47-4E18-AFC2-FF07D070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CF5B8-CCDE-414D-B45F-B5FFF086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C12E9-6265-4499-B8BB-755B8878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F25FD-A08B-41A9-9A48-3DD38CBB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05C19-130A-4E81-9E68-4589E1C9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F3298-6C5A-46FE-BD67-67A5D523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38BD-7C58-45B0-9F33-33C115F7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42A12-3A0E-45A5-99B6-C9243BCC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375E5-4880-4897-A2F5-6F0791AA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0F7DA-6068-428E-A45B-CA6EF0F0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0F1A4-63A9-492F-BC04-5DA6FBE8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B30C5-5236-4F66-BC2C-E65A29E2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9EB86-A4E4-4EC2-9035-02EAEBB9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C6BC4-4B09-4CEF-A950-BC601D43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0F1B7-F825-4C20-BCA8-D2984653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D4FE1-C927-45E2-8BD3-4FF602E5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54209-D167-4CC0-93E6-DA52BE61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0D13-F638-4274-84FB-4EF8AB7A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A75F3-B55F-4A5C-B92B-B0E95A75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8208C-0623-47CF-BC53-459B9407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79DCA-ED40-414D-B56A-28E02A83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D8975-28AB-46D2-BB0B-FD2689DD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EF165-B90E-453A-8ED9-C159EDAC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D094-3499-4877-847C-0CDA24AB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A6CF-AC2A-4E2C-AEE0-75EBB8F3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542-13C5-45EA-BFA1-B85DCD25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2718-07DD-4131-979B-08E518FC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32D1-6398-43A5-8955-1DF73FBD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A7A-296F-43B6-9D4A-51FEC35F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3D18-D62D-4B2F-B498-F94C35C4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B2BA-426E-4B26-AB5E-CD7A8DD2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FC0-029F-4383-85DD-20DD74EB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B13-9CC6-4203-A1A2-5DD8EB07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3FDF-E855-444F-8376-2E5B01DC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5F16-45F3-4560-9E7F-D6505065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5143-34A5-4E8C-8F2E-5456FF42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63CA-936A-4834-A8DA-ECFA765C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C2A1-73BA-4879-BD85-BF2B0FE5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A0D7-11B4-434D-80A6-A99DC750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B248-CAE2-439A-89C0-BEEE7CFC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3AE9-88FB-4576-B4F3-E096CBAE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C7B0-FBAB-49C5-826B-4009AF8C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F042-8F27-43EB-91F6-D94D2968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8B50-632D-44E4-AA59-C19E71B4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FB73-DCFE-4CA3-B68E-9C0AE0C0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0CF84-E55D-464B-8E05-0321FA73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5DDCC-7998-4120-9155-911019E9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56971-18C7-4365-A347-3561EE51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63D00-E67D-459F-BFBF-9657581C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FC85E-A9BC-4B94-9B44-A2FF079C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F444E-72DB-4FF0-9A6A-1761E025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DB31D-BA9B-4DDB-A1BF-85DAE17B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91F60-E5E5-4FC4-8EB9-D82EBA07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78899-90AC-4D1A-9ACA-E4B98563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9E67B-A5BF-45B6-BF37-1BC2A027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53442-76F2-4815-9857-397289D6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45C54-E144-4453-AC26-7E051DB2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96174-7085-4939-A0E8-9CDA2E30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83211-1D59-40B7-97AE-BD3990E5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C53D5-61FF-4473-8A47-81201DA6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9E86E-0ECC-4108-BB4D-8B151595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261B5-33C6-46CD-A0CB-5AD1B948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915C2-8795-45BE-BF15-4BEED6F2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FC5ED-8A73-410E-AF96-BAB00274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96108-01E2-4F96-A0FB-61327995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56AB9-4B76-4683-BBB5-C3D6DA73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300DD-68ED-41C3-A1A8-EA66B3A0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A35C0-3034-4E3E-92DC-9BB595E7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80B3F-D75E-4343-A4F5-B0D31450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C53A8-CC73-4388-9708-9D2BA7AF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85835-6296-4AAA-BA7C-154C570B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6E393-CCF3-49C0-BF14-A109E763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B3A87-E111-46BD-9E75-C9C0AEF2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2DF65-99B4-4778-A3D8-FBC081FF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382F5-68C7-4FA1-BB06-C1EC5195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B5BAB-2716-403F-9EAF-D691F188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FCFD4-F605-41AD-B77B-DB404AFC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F519D-4B76-4316-8562-BC0D3FAA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80D99-A90B-4514-80AF-A00FBE48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9393D-A798-4F11-8B15-A8646E8C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9B319-D752-4104-B9AF-E56E07F0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AC442-19E0-4465-BCB2-6915B847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AEDBC-3D37-424B-AFF1-7A2BA226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4A70C-5C09-43BD-8DF8-2DCA914E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3B6EF-0BEA-4DA6-9056-0D16302F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6F9A0-3EF8-4F75-B7EC-ECAAA3EE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50A61-3DB0-4A58-B82A-24E8CB41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5F9AC-9A16-41C1-AB76-1619754D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0F432-BA75-4741-8E20-69A24DEB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0A1F0-231E-4F53-A713-D4A243B9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CF7A9-17B2-43B4-85C6-0D5BC169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7FBC1-7197-4B40-8CE5-8A6B623D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25215-305A-4C99-A2F5-93908C50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AACF1-8AC1-4C5F-9638-11D99C4E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953B1-AA8E-4D5F-8655-E7694DB2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E4C28-82A4-426E-9237-47530C38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050D8-F595-44D8-B4F5-50F1B9DA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C3207-DF4A-4D0D-897A-9B58D6FA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240D7-CA2D-486F-A868-4E27321C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1D68F-C66C-403F-97A0-28BF5C89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22AD7-F313-4C54-B335-24233198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CA07C-14A1-4967-AC3D-EDC1D9D3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11F31-ED3D-4D7F-B5FB-5DBD24E4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09FDF-1DCA-440F-BAC5-B720DBB8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5D3C7-2B6B-439B-8FA4-1C1161E2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23A40-1054-4682-9146-7AD5F4D7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D2454-8BDC-42A8-AE13-3E9BD3AB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FF183-984E-45D1-8840-6630E836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47A9-CF64-483E-8EFB-24C60889EDF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C0BA-73AF-48BF-B1BE-D9EFD56EABD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81E9-8A02-4432-82B9-CC2473CFA1A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A2CB-BA6E-4BDF-A152-54E4502E3E4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B83C-A9E0-403C-A91E-DCED1F01B83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82E2-44AE-4374-B334-CEBC9757F76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BB04-77E8-4F12-923A-6AF2D318808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83AD-2A8A-4D28-B99B-E838921FB73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7CA9-EA58-4DC9-9922-5579E4348A7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9876-259C-4F53-BA06-39212274E63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B1D0-D8ED-4E5E-A18B-F489D3F7311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22050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matters most in life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he point of your life is to love God and to lov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250920" y="20527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 The point of your life is to love Go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ut God at th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 The point of your life is to love other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58Z</dcterms:modified>
  <cp:revision>6</cp:revision>
  <dc:subject/>
  <dc:title>PowerPoint Presentation</dc:title>
</cp:coreProperties>
</file>