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BF43-3E45-45C1-9813-D4CB6292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E11E-CB88-4421-8C17-C0B81DCB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4094-5684-48A7-8306-51D13803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AA18-17B2-4EBA-B200-A729621D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1286-51F5-486D-93EB-1876F9C4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1A14-772D-4AA1-AA3E-B8ED2220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F0B9-31EF-4088-A750-DE0BC01A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5F08-6958-4BD6-A3D5-65088BD5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DF4C-69C0-42FF-B64C-A6566371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7643-1A81-4F7F-AF8D-5AB949EC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961D-2A41-4780-BCB2-45DCEAF5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F8FB-5999-461E-B2C3-8D964092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5006-A497-4E73-A43B-7D6538DCC5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15CC-5DF8-4F27-903C-3BCF8E37FB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Documents and Settings\mparker\Local Settings\Temporary Internet Files\Content.IE5\SF05V9Y1\MPj04221040000[1].jpg"/>
          <p:cNvPicPr/>
          <p:nvPr/>
        </p:nvPicPr>
        <p:blipFill>
          <a:blip r:embed="rId2"/>
          <a:srcRect l="50539" t="3333" r="19944" b="0"/>
          <a:stretch/>
        </p:blipFill>
        <p:spPr>
          <a:xfrm>
            <a:off x="0" y="533520"/>
            <a:ext cx="1619280" cy="6095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RefocusNoStrapline.jpg"/>
          <p:cNvPicPr/>
          <p:nvPr/>
        </p:nvPicPr>
        <p:blipFill>
          <a:blip r:embed="rId4"/>
          <a:srcRect l="6276" t="0" r="0" b="25158"/>
          <a:stretch/>
        </p:blipFill>
        <p:spPr>
          <a:xfrm>
            <a:off x="0" y="-27000"/>
            <a:ext cx="1619280" cy="863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3000240" y="1285920"/>
            <a:ext cx="592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d5b5"/>
                </a:solidFill>
                <a:latin typeface="Tahoma"/>
                <a:ea typeface="Tahoma"/>
              </a:rPr>
              <a:t>SOWING,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ac090"/>
                </a:solidFill>
                <a:latin typeface="Tahoma"/>
                <a:ea typeface="Tahoma"/>
              </a:rPr>
              <a:t>REAPING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e46c0a"/>
                </a:solidFill>
                <a:latin typeface="Tahoma"/>
                <a:ea typeface="Tahoma"/>
              </a:rPr>
              <a:t>KEEP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SportsCar.jpg"/>
          <p:cNvPicPr/>
          <p:nvPr/>
        </p:nvPicPr>
        <p:blipFill>
          <a:blip r:embed="rId1"/>
          <a:stretch/>
        </p:blipFill>
        <p:spPr>
          <a:xfrm>
            <a:off x="2484360" y="836640"/>
            <a:ext cx="590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The Engel Scale: Sowing and Reap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63640" y="1676520"/>
          <a:ext cx="7056360" cy="4479840"/>
        </p:xfrm>
        <a:graphic>
          <a:graphicData uri="http://schemas.openxmlformats.org/drawingml/2006/table">
            <a:tbl>
              <a:tblPr/>
              <a:tblGrid>
                <a:gridCol w="2664000"/>
                <a:gridCol w="4392360"/>
              </a:tblGrid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1 -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God is good and Christians are OK.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4 -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Basics of the gospel messag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7 -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Counting the cost and making a respo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n evangelistic strategy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needs to include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92000" y="1905120"/>
            <a:ext cx="74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1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2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Rea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Kee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Tahoma"/>
                <a:ea typeface="Tahoma"/>
              </a:rPr>
              <a:t>Having a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835280" y="1371600"/>
            <a:ext cx="6927840" cy="55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’s basic strategy is clear in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Go first to the Jews or God-fea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n evangelistic church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Having an evangelism strategy is 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not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unspiri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1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 a secret pas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Offer practical hel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Hold a party for your neighbours (The Big Lun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Fun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come a school gover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lay sport for a local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2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‘café style’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 / Journeys /Wellspr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ir Trade / Christian Aid conc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rayer Spaces in sch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Songs of Pra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‘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resh Expressions’ eg Messy Chu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Make the most of Christmas, Easter 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Reaping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Retreat (Quiet Day, large Christian ev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ointing people in the right dir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F Clu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Keeping strateg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1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What helps people sta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sense of belonging, small groups KE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place to serve and gr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healthy, open and trusting relationshi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leaders able to lead, motivate and equi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9280" y="304560"/>
            <a:ext cx="752472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What nex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286000" y="1981080"/>
            <a:ext cx="6072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ncourage leaders to read </a:t>
            </a:r>
            <a:r>
              <a:rPr b="0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, Reaping,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e with the church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Use the training materials to involve the whol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19280" y="45684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A paradigm shif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19280" y="1989000"/>
            <a:ext cx="75247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Four changes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to shape a strategy for evangelis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763640" y="476280"/>
          <a:ext cx="7056360" cy="5989680"/>
        </p:xfrm>
        <a:graphic>
          <a:graphicData uri="http://schemas.openxmlformats.org/drawingml/2006/table">
            <a:tbl>
              <a:tblPr/>
              <a:tblGrid>
                <a:gridCol w="1028880"/>
                <a:gridCol w="1323720"/>
                <a:gridCol w="1176480"/>
                <a:gridCol w="1174680"/>
                <a:gridCol w="1176480"/>
                <a:gridCol w="117612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Networ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Pione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T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Rea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ldr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e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dul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aby Boo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ni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am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1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‘telling the truth’ as the     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    ‘outworking of love’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2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requiring people to ‘make a decision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being part of a process and what the Holy Spirit is doing in a person’s life over time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3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making convert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s about making disciples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4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a few gifted evangelists proclaiming ‘the truth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bout every Christian being good news in their neighbourhood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abou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the outworking of l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involved in what the Holy Spirit is doing over time (proc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making disci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everyone being invol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LifetMan.jpg"/>
          <p:cNvPicPr/>
          <p:nvPr/>
        </p:nvPicPr>
        <p:blipFill>
          <a:blip r:embed="rId1"/>
          <a:stretch/>
        </p:blipFill>
        <p:spPr>
          <a:xfrm>
            <a:off x="2771640" y="907920"/>
            <a:ext cx="542304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Two important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1:  Where on the scale are most people in Englan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low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2: Where on the scale has our evangelism been direc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high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6:37:42Z</dcterms:created>
  <dc:creator>Mary Parker</dc:creator>
  <dc:description/>
  <cp:keywords/>
  <dc:language>en-US</dc:language>
  <cp:lastModifiedBy>Mary Parker</cp:lastModifiedBy>
  <dcterms:modified xsi:type="dcterms:W3CDTF">2012-01-13T12:40:28Z</dcterms:modified>
  <cp:revision>16</cp:revision>
  <dc:subject/>
  <dc:title>PowerPoint Presentation</dc:title>
</cp:coreProperties>
</file>